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724650" cy="9774238"/>
  <p:custShowLst>
    <p:custShow name="Custom Show 1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248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145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2"/>
          </p:nvPr>
        </p:nvSpPr>
        <p:spPr>
          <a:xfrm>
            <a:off x="3809520" y="0"/>
            <a:ext cx="29149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cc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8080" cy="366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0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896400" y="4642920"/>
            <a:ext cx="493092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3"/>
          </p:nvPr>
        </p:nvSpPr>
        <p:spPr>
          <a:xfrm>
            <a:off x="0" y="9284760"/>
            <a:ext cx="29145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cc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4"/>
          </p:nvPr>
        </p:nvSpPr>
        <p:spPr>
          <a:xfrm>
            <a:off x="3809520" y="9284760"/>
            <a:ext cx="29149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cc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836BA-8682-4BAC-B518-87A5B3F7CA0A}" type="slidenum">
              <a:rPr b="1" lang="en-US" sz="1200" spc="-1" strike="noStrike">
                <a:solidFill>
                  <a:srgbClr val="00cc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809520" y="9284760"/>
            <a:ext cx="29149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9DE5A-AAA5-4C30-8B28-D12A92D2ABF7}" type="slidenum">
              <a:rPr b="1" lang="en-US" sz="1200" spc="-1" strike="noStrike">
                <a:solidFill>
                  <a:srgbClr val="bbe0e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0" y="9284760"/>
            <a:ext cx="29145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be0e3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0" y="0"/>
            <a:ext cx="29145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be0e3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809520" y="0"/>
            <a:ext cx="29149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be0e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8080" cy="36655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96400" y="4642920"/>
            <a:ext cx="493092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8ECE0-D66E-4F43-9452-AA2E980D14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88733-6D3D-40DF-BE11-44C3C503EB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A4C8A-0D2E-42D2-923E-D2DA571C96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D66A1-D5AE-4FEA-96C9-4BDD07628E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c92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c92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c9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7D950-5A92-4473-B608-7B9866EC51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26D1E-7A38-40E3-803D-D4E6147BB3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E4684-0DD0-4300-9AEA-AE83784C69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4C853-3612-4909-BE0B-7DB2793E19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c9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B7E5D-9992-44BA-AB8E-9055C60BCF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8A2A0-ADCE-48BC-A27C-4D6B595F63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D1A42-65C0-44E0-B7AD-4DCBEB9F65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9D58F-CFC2-4A0F-AC99-970B6F8CE8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4FFC1-8BB6-42CE-98B3-DC2724078EA1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727280" y="5856120"/>
            <a:ext cx="3908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6, Intel Corporation. All rights reserved.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547040" y="6178680"/>
            <a:ext cx="1116000" cy="5569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903240" y="649116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Programs of the Intel Education Initiative are funded by the Intel Foundation and Intel Corporation.  </a:t>
            </a:r>
            <a:br>
              <a:rPr sz="700"/>
            </a:b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7 Intel Corporation. All rights reserved. Intel and Intel</a:t>
            </a:r>
            <a:r>
              <a:rPr b="0" lang="en-US" sz="7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</a:t>
            </a: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 Education are trademarks or registered trademarks of Intel Corporation or its subsidiaries in the United States and other countries. 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80000" y="307800"/>
            <a:ext cx="2184480" cy="1092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565000"/>
            <a:ext cx="87631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0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070680"/>
            <a:ext cx="482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0360" y="647208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860a8"/>
                </a:solidFill>
                <a:latin typeface="Verdana"/>
              </a:rPr>
              <a:t>Programs of the Intel Education Initiative are funded by the Intel Foundation and Intel Corporation.  </a:t>
            </a:r>
            <a:br>
              <a:rPr sz="700"/>
            </a:br>
            <a:r>
              <a:rPr b="0" lang="en-US" sz="700" spc="-1" strike="noStrike">
                <a:solidFill>
                  <a:srgbClr val="0860a8"/>
                </a:solidFill>
                <a:latin typeface="Verdana"/>
              </a:rPr>
              <a:t>Copyright © 2007 Intel Corporation. All rights reserved. Intel and Intel</a:t>
            </a:r>
            <a:r>
              <a:rPr b="0" lang="en-US" sz="700" spc="-1" strike="noStrike" baseline="30000">
                <a:solidFill>
                  <a:srgbClr val="0860a8"/>
                </a:solidFill>
                <a:latin typeface="Symbol"/>
                <a:ea typeface="Symbol"/>
              </a:rPr>
              <a:t></a:t>
            </a:r>
            <a:r>
              <a:rPr b="0" lang="en-US" sz="700" spc="-1" strike="noStrike">
                <a:solidFill>
                  <a:srgbClr val="0860a8"/>
                </a:solidFill>
                <a:latin typeface="Verdana"/>
              </a:rPr>
              <a:t> Education are trademarks or registered trademarks of Intel Corporation or its subsidiaries in the United States and other countries. 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c92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7c92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Prezentare_modul_2.ppt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565000"/>
            <a:ext cx="87631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800" spc="-1" strike="noStrike">
                <a:solidFill>
                  <a:srgbClr val="0860a8"/>
                </a:solidFill>
                <a:latin typeface="Verdana"/>
              </a:rPr>
              <a:t>Întrebările-cheie ale curriculumului</a:t>
            </a:r>
            <a:endParaRPr b="0" lang="en-US" sz="3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0" y="4419720"/>
            <a:ext cx="87631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7c92"/>
                </a:solidFill>
                <a:latin typeface="Verdana"/>
              </a:rPr>
              <a:t>Ce sunt acestea şi cum ajută îi ajută pe profesori şi pe elevii</a:t>
            </a:r>
            <a:r>
              <a:rPr b="1" lang="en-US" sz="1600" spc="-1" strike="noStrike">
                <a:solidFill>
                  <a:srgbClr val="007c92"/>
                </a:solidFill>
                <a:latin typeface="Verdana"/>
              </a:rPr>
              <a:t>?</a:t>
            </a:r>
            <a:endParaRPr b="1" lang="en-US" sz="1600" spc="-1" strike="noStrike">
              <a:solidFill>
                <a:srgbClr val="007c9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860a8"/>
                </a:solidFill>
                <a:latin typeface="Verdana"/>
              </a:rPr>
              <a:t>Ce sunt întrebările-cheie ale curriculumului</a:t>
            </a: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1371240"/>
            <a:ext cx="84596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860a8"/>
                </a:solidFill>
                <a:latin typeface="Verdana"/>
              </a:rPr>
              <a:t>Întrebările-cheie ale curriculumului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ghidează unitatea de învăţare şi includ întrebarea esenţială, întrebările unităţii şi întrebări de conţinu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Întrebările esenţia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Se referă la un domeniu extins, sunt deschi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Vizează idei şi concepte important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Sunt adesea transdisciplinare şi ajută elevii să realizeze conexiuni între tem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Întrebările unităţii de învăţare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Sunt întrebări deschise, legate direct de tema proiectului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Ajută elevii să arate cât de bine înţeleg noţiunile fundamenta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Întrebări de conţinut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Sunt întrebări concrete, factua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Au un număr restrâns de răspunsuri corect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Se asociază cu definiţii, identificări, în general cu procesele cognitive de reamintire a informaţiilo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D5EEC-20FB-466E-9C23-4529E7E57B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Care este diferenţa dintre întrebările esenţiale şi întrebările unităţii de învăţa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8237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Întrebările esenţiale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Sunt largi în sco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Oferă punţi între discipline şi unităţi de învăţa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65920" indent="-320760">
              <a:spcBef>
                <a:spcPts val="675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Ex</a:t>
            </a:r>
            <a:r>
              <a:rPr b="0" i="1" lang="ro-RO" sz="1800" spc="-1" strike="noStrike">
                <a:solidFill>
                  <a:srgbClr val="0860a8"/>
                </a:solidFill>
                <a:latin typeface="Verdana"/>
              </a:rPr>
              <a:t>emplu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: </a:t>
            </a:r>
            <a:r>
              <a:rPr b="0" i="1" lang="ro-RO" sz="1800" spc="-1" strike="noStrike">
                <a:solidFill>
                  <a:srgbClr val="0860a8"/>
                </a:solidFill>
                <a:latin typeface="Verdana"/>
              </a:rPr>
              <a:t>Cum putem înţelege mai bine lumea în care trăim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Întrebările unităţii de învăţare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Sunt legate de o anumită temă sau unitate de învăţa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Susţin şi continuă studiul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materiei vizate de o întrebare esenţială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65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E</a:t>
            </a:r>
            <a:r>
              <a:rPr b="0" i="1" lang="ro-RO" sz="1800" spc="-1" strike="noStrike">
                <a:solidFill>
                  <a:srgbClr val="0860a8"/>
                </a:solidFill>
                <a:latin typeface="Verdana"/>
              </a:rPr>
              <a:t>xe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mpl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65920" indent="-320760">
              <a:spcBef>
                <a:spcPts val="675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860a8"/>
                </a:solidFill>
                <a:latin typeface="Verdana"/>
              </a:rPr>
              <a:t>Cum ne poate ajuta literatura să ne înţelegem pe noi înşine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65920" indent="-320760">
              <a:spcBef>
                <a:spcPts val="675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860a8"/>
                </a:solidFill>
                <a:latin typeface="Verdana"/>
              </a:rPr>
              <a:t>Care sunt resursele (stilistice) prin care operele literare exprimă complexitatea gândurilor şi sentimentelor umane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65920" indent="-320760">
              <a:spcBef>
                <a:spcPts val="675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860a8"/>
                </a:solidFill>
                <a:latin typeface="Verdana"/>
              </a:rPr>
              <a:t>În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Povestea lui Harap-Alb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, </a:t>
            </a:r>
            <a:r>
              <a:rPr b="0" i="1" lang="ro-RO" sz="1800" spc="-1" strike="noStrike">
                <a:solidFill>
                  <a:srgbClr val="0860a8"/>
                </a:solidFill>
                <a:latin typeface="Verdana"/>
              </a:rPr>
              <a:t>cum îl ajută pe Harap-Alb calităţile tovarăşilor de drum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8B3F1-7008-4F10-9A56-9DA404CD40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Prin ce sunt diferite întrebările de conţinut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ntrebările de conţinut diferă de întrebările esenţiale şi de cele de unitat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ntrebările de conţinut vizează în special informaţia factuală, mai mult decât interpretarea faptelo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Au răspunsuri preci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Ex</a:t>
            </a:r>
            <a:r>
              <a:rPr b="0" i="1" lang="ro-RO" sz="1800" spc="-1" strike="noStrike">
                <a:solidFill>
                  <a:srgbClr val="0860a8"/>
                </a:solidFill>
                <a:latin typeface="Verdana"/>
              </a:rPr>
              <a:t>e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mpl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Din ce este compusă magma vulcanic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e este opera liric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De ce este frig iarna când străluceşte soarel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um determinaţi valoarea necunoscutei în ecuaţia de gradul I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are sunt trăsăturile unei creaţii liric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E0505-2BBA-43AA-B9A5-9E9C950E270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De ce să folosim întrebări-cheie ale curriculumului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Pentru a viza capacităţi de gândire de nivel superio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Pentru a solicita mai mult decât o simplă repovestire sau reproducere a informaţiilor transmi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Pentru a solicita operaţii de interpretare, comparaţie, sinteză, analiză critică, rezolvare de probleme, evaluar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Pentru a ne asigura că proiectele elevilor sunt la obiect şi motivan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Pentru a viza probleme şi aspecte care îi interesează pe elev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Pentru a formula întrebări similare cu cele puse de-a lungul istoriei omenirii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Pentru a ne concentra asupra temelor importan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Pentru a lega învăţarea de alte discipline şi te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10FCE-7EF7-40B8-9034-48635EA43D9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Cum susţin diverse întrebări de unitate o singură întrebare esenţială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371240"/>
            <a:ext cx="3430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ntrebările pentru unităţi succesive de învăţare pot explora diferite aspecte ale unei întrebări esenţial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Echipe de profesori de diferite discipline pot utiliza întrebările propriilor unităţi de învăţare pentru a susţine o întrebar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esenţială comună, unificatoar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114800" y="1752480"/>
            <a:ext cx="4800600" cy="2139840"/>
            <a:chOff x="4114800" y="1752480"/>
            <a:chExt cx="4800600" cy="2139840"/>
          </a:xfrm>
        </p:grpSpPr>
        <p:sp>
          <p:nvSpPr>
            <p:cNvPr id="104" name=""/>
            <p:cNvSpPr/>
            <p:nvPr/>
          </p:nvSpPr>
          <p:spPr>
            <a:xfrm>
              <a:off x="4114800" y="2060280"/>
              <a:ext cx="4800600" cy="1832040"/>
            </a:xfrm>
            <a:custGeom>
              <a:avLst/>
              <a:gdLst/>
              <a:ahLst/>
              <a:rect l="l" t="t" r="r" b="b"/>
              <a:pathLst>
                <a:path w="3739" h="1595">
                  <a:moveTo>
                    <a:pt x="22" y="787"/>
                  </a:moveTo>
                  <a:lnTo>
                    <a:pt x="14" y="742"/>
                  </a:lnTo>
                  <a:lnTo>
                    <a:pt x="8" y="698"/>
                  </a:lnTo>
                  <a:lnTo>
                    <a:pt x="3" y="654"/>
                  </a:lnTo>
                  <a:lnTo>
                    <a:pt x="0" y="608"/>
                  </a:lnTo>
                  <a:lnTo>
                    <a:pt x="3" y="561"/>
                  </a:lnTo>
                  <a:lnTo>
                    <a:pt x="9" y="512"/>
                  </a:lnTo>
                  <a:lnTo>
                    <a:pt x="21" y="460"/>
                  </a:lnTo>
                  <a:lnTo>
                    <a:pt x="40" y="405"/>
                  </a:lnTo>
                  <a:lnTo>
                    <a:pt x="56" y="371"/>
                  </a:lnTo>
                  <a:lnTo>
                    <a:pt x="74" y="338"/>
                  </a:lnTo>
                  <a:lnTo>
                    <a:pt x="99" y="309"/>
                  </a:lnTo>
                  <a:lnTo>
                    <a:pt x="125" y="280"/>
                  </a:lnTo>
                  <a:lnTo>
                    <a:pt x="154" y="254"/>
                  </a:lnTo>
                  <a:lnTo>
                    <a:pt x="188" y="230"/>
                  </a:lnTo>
                  <a:lnTo>
                    <a:pt x="224" y="205"/>
                  </a:lnTo>
                  <a:lnTo>
                    <a:pt x="263" y="184"/>
                  </a:lnTo>
                  <a:lnTo>
                    <a:pt x="305" y="165"/>
                  </a:lnTo>
                  <a:lnTo>
                    <a:pt x="351" y="145"/>
                  </a:lnTo>
                  <a:lnTo>
                    <a:pt x="400" y="129"/>
                  </a:lnTo>
                  <a:lnTo>
                    <a:pt x="450" y="113"/>
                  </a:lnTo>
                  <a:lnTo>
                    <a:pt x="504" y="98"/>
                  </a:lnTo>
                  <a:lnTo>
                    <a:pt x="559" y="85"/>
                  </a:lnTo>
                  <a:lnTo>
                    <a:pt x="618" y="73"/>
                  </a:lnTo>
                  <a:lnTo>
                    <a:pt x="678" y="62"/>
                  </a:lnTo>
                  <a:lnTo>
                    <a:pt x="740" y="52"/>
                  </a:lnTo>
                  <a:lnTo>
                    <a:pt x="805" y="44"/>
                  </a:lnTo>
                  <a:lnTo>
                    <a:pt x="871" y="36"/>
                  </a:lnTo>
                  <a:lnTo>
                    <a:pt x="938" y="30"/>
                  </a:lnTo>
                  <a:lnTo>
                    <a:pt x="1010" y="25"/>
                  </a:lnTo>
                  <a:lnTo>
                    <a:pt x="1081" y="18"/>
                  </a:lnTo>
                  <a:lnTo>
                    <a:pt x="1153" y="15"/>
                  </a:lnTo>
                  <a:lnTo>
                    <a:pt x="1228" y="12"/>
                  </a:lnTo>
                  <a:lnTo>
                    <a:pt x="1304" y="8"/>
                  </a:lnTo>
                  <a:lnTo>
                    <a:pt x="1381" y="5"/>
                  </a:lnTo>
                  <a:lnTo>
                    <a:pt x="1459" y="4"/>
                  </a:lnTo>
                  <a:lnTo>
                    <a:pt x="1538" y="2"/>
                  </a:lnTo>
                  <a:lnTo>
                    <a:pt x="1618" y="2"/>
                  </a:lnTo>
                  <a:lnTo>
                    <a:pt x="1699" y="0"/>
                  </a:lnTo>
                  <a:lnTo>
                    <a:pt x="1781" y="0"/>
                  </a:lnTo>
                  <a:lnTo>
                    <a:pt x="1862" y="0"/>
                  </a:lnTo>
                  <a:lnTo>
                    <a:pt x="1940" y="0"/>
                  </a:lnTo>
                  <a:lnTo>
                    <a:pt x="2017" y="0"/>
                  </a:lnTo>
                  <a:lnTo>
                    <a:pt x="2095" y="2"/>
                  </a:lnTo>
                  <a:lnTo>
                    <a:pt x="2171" y="4"/>
                  </a:lnTo>
                  <a:lnTo>
                    <a:pt x="2246" y="5"/>
                  </a:lnTo>
                  <a:lnTo>
                    <a:pt x="2321" y="7"/>
                  </a:lnTo>
                  <a:lnTo>
                    <a:pt x="2396" y="10"/>
                  </a:lnTo>
                  <a:lnTo>
                    <a:pt x="2469" y="13"/>
                  </a:lnTo>
                  <a:lnTo>
                    <a:pt x="2542" y="18"/>
                  </a:lnTo>
                  <a:lnTo>
                    <a:pt x="2612" y="23"/>
                  </a:lnTo>
                  <a:lnTo>
                    <a:pt x="2682" y="28"/>
                  </a:lnTo>
                  <a:lnTo>
                    <a:pt x="2750" y="34"/>
                  </a:lnTo>
                  <a:lnTo>
                    <a:pt x="2819" y="43"/>
                  </a:lnTo>
                  <a:lnTo>
                    <a:pt x="2884" y="51"/>
                  </a:lnTo>
                  <a:lnTo>
                    <a:pt x="2947" y="59"/>
                  </a:lnTo>
                  <a:lnTo>
                    <a:pt x="3011" y="69"/>
                  </a:lnTo>
                  <a:lnTo>
                    <a:pt x="3071" y="80"/>
                  </a:lnTo>
                  <a:lnTo>
                    <a:pt x="3128" y="93"/>
                  </a:lnTo>
                  <a:lnTo>
                    <a:pt x="3185" y="106"/>
                  </a:lnTo>
                  <a:lnTo>
                    <a:pt x="3238" y="121"/>
                  </a:lnTo>
                  <a:lnTo>
                    <a:pt x="3290" y="137"/>
                  </a:lnTo>
                  <a:lnTo>
                    <a:pt x="3339" y="153"/>
                  </a:lnTo>
                  <a:lnTo>
                    <a:pt x="3386" y="173"/>
                  </a:lnTo>
                  <a:lnTo>
                    <a:pt x="3430" y="192"/>
                  </a:lnTo>
                  <a:lnTo>
                    <a:pt x="3473" y="213"/>
                  </a:lnTo>
                  <a:lnTo>
                    <a:pt x="3512" y="236"/>
                  </a:lnTo>
                  <a:lnTo>
                    <a:pt x="3548" y="260"/>
                  </a:lnTo>
                  <a:lnTo>
                    <a:pt x="3580" y="285"/>
                  </a:lnTo>
                  <a:lnTo>
                    <a:pt x="3609" y="312"/>
                  </a:lnTo>
                  <a:lnTo>
                    <a:pt x="3637" y="342"/>
                  </a:lnTo>
                  <a:lnTo>
                    <a:pt x="3660" y="373"/>
                  </a:lnTo>
                  <a:lnTo>
                    <a:pt x="3679" y="405"/>
                  </a:lnTo>
                  <a:lnTo>
                    <a:pt x="3696" y="441"/>
                  </a:lnTo>
                  <a:lnTo>
                    <a:pt x="3710" y="490"/>
                  </a:lnTo>
                  <a:lnTo>
                    <a:pt x="3725" y="547"/>
                  </a:lnTo>
                  <a:lnTo>
                    <a:pt x="3735" y="610"/>
                  </a:lnTo>
                  <a:lnTo>
                    <a:pt x="3739" y="677"/>
                  </a:lnTo>
                  <a:lnTo>
                    <a:pt x="3738" y="743"/>
                  </a:lnTo>
                  <a:lnTo>
                    <a:pt x="3730" y="808"/>
                  </a:lnTo>
                  <a:lnTo>
                    <a:pt x="3712" y="868"/>
                  </a:lnTo>
                  <a:lnTo>
                    <a:pt x="3694" y="911"/>
                  </a:lnTo>
                  <a:lnTo>
                    <a:pt x="3673" y="951"/>
                  </a:lnTo>
                  <a:lnTo>
                    <a:pt x="3650" y="990"/>
                  </a:lnTo>
                  <a:lnTo>
                    <a:pt x="3624" y="1028"/>
                  </a:lnTo>
                  <a:lnTo>
                    <a:pt x="3595" y="1065"/>
                  </a:lnTo>
                  <a:lnTo>
                    <a:pt x="3564" y="1102"/>
                  </a:lnTo>
                  <a:lnTo>
                    <a:pt x="3528" y="1137"/>
                  </a:lnTo>
                  <a:lnTo>
                    <a:pt x="3492" y="1171"/>
                  </a:lnTo>
                  <a:lnTo>
                    <a:pt x="3452" y="1203"/>
                  </a:lnTo>
                  <a:lnTo>
                    <a:pt x="3409" y="1236"/>
                  </a:lnTo>
                  <a:lnTo>
                    <a:pt x="3365" y="1267"/>
                  </a:lnTo>
                  <a:lnTo>
                    <a:pt x="3318" y="1296"/>
                  </a:lnTo>
                  <a:lnTo>
                    <a:pt x="3268" y="1324"/>
                  </a:lnTo>
                  <a:lnTo>
                    <a:pt x="3216" y="1350"/>
                  </a:lnTo>
                  <a:lnTo>
                    <a:pt x="3160" y="1376"/>
                  </a:lnTo>
                  <a:lnTo>
                    <a:pt x="3102" y="1400"/>
                  </a:lnTo>
                  <a:lnTo>
                    <a:pt x="3043" y="1423"/>
                  </a:lnTo>
                  <a:lnTo>
                    <a:pt x="2980" y="1444"/>
                  </a:lnTo>
                  <a:lnTo>
                    <a:pt x="2915" y="1465"/>
                  </a:lnTo>
                  <a:lnTo>
                    <a:pt x="2848" y="1483"/>
                  </a:lnTo>
                  <a:lnTo>
                    <a:pt x="2778" y="1501"/>
                  </a:lnTo>
                  <a:lnTo>
                    <a:pt x="2706" y="1517"/>
                  </a:lnTo>
                  <a:lnTo>
                    <a:pt x="2632" y="1532"/>
                  </a:lnTo>
                  <a:lnTo>
                    <a:pt x="2555" y="1545"/>
                  </a:lnTo>
                  <a:lnTo>
                    <a:pt x="2477" y="1556"/>
                  </a:lnTo>
                  <a:lnTo>
                    <a:pt x="2396" y="1566"/>
                  </a:lnTo>
                  <a:lnTo>
                    <a:pt x="2311" y="1575"/>
                  </a:lnTo>
                  <a:lnTo>
                    <a:pt x="2227" y="1582"/>
                  </a:lnTo>
                  <a:lnTo>
                    <a:pt x="2139" y="1588"/>
                  </a:lnTo>
                  <a:lnTo>
                    <a:pt x="2049" y="1592"/>
                  </a:lnTo>
                  <a:lnTo>
                    <a:pt x="1957" y="1595"/>
                  </a:lnTo>
                  <a:lnTo>
                    <a:pt x="1862" y="1595"/>
                  </a:lnTo>
                  <a:lnTo>
                    <a:pt x="1763" y="1593"/>
                  </a:lnTo>
                  <a:lnTo>
                    <a:pt x="1665" y="1592"/>
                  </a:lnTo>
                  <a:lnTo>
                    <a:pt x="1569" y="1587"/>
                  </a:lnTo>
                  <a:lnTo>
                    <a:pt x="1478" y="1580"/>
                  </a:lnTo>
                  <a:lnTo>
                    <a:pt x="1387" y="1572"/>
                  </a:lnTo>
                  <a:lnTo>
                    <a:pt x="1301" y="1562"/>
                  </a:lnTo>
                  <a:lnTo>
                    <a:pt x="1216" y="1551"/>
                  </a:lnTo>
                  <a:lnTo>
                    <a:pt x="1133" y="1538"/>
                  </a:lnTo>
                  <a:lnTo>
                    <a:pt x="1054" y="1523"/>
                  </a:lnTo>
                  <a:lnTo>
                    <a:pt x="977" y="1507"/>
                  </a:lnTo>
                  <a:lnTo>
                    <a:pt x="902" y="1489"/>
                  </a:lnTo>
                  <a:lnTo>
                    <a:pt x="831" y="1470"/>
                  </a:lnTo>
                  <a:lnTo>
                    <a:pt x="762" y="1449"/>
                  </a:lnTo>
                  <a:lnTo>
                    <a:pt x="696" y="1426"/>
                  </a:lnTo>
                  <a:lnTo>
                    <a:pt x="634" y="1402"/>
                  </a:lnTo>
                  <a:lnTo>
                    <a:pt x="574" y="1376"/>
                  </a:lnTo>
                  <a:lnTo>
                    <a:pt x="515" y="1350"/>
                  </a:lnTo>
                  <a:lnTo>
                    <a:pt x="462" y="1320"/>
                  </a:lnTo>
                  <a:lnTo>
                    <a:pt x="409" y="1291"/>
                  </a:lnTo>
                  <a:lnTo>
                    <a:pt x="361" y="1260"/>
                  </a:lnTo>
                  <a:lnTo>
                    <a:pt x="315" y="1228"/>
                  </a:lnTo>
                  <a:lnTo>
                    <a:pt x="273" y="1193"/>
                  </a:lnTo>
                  <a:lnTo>
                    <a:pt x="234" y="1158"/>
                  </a:lnTo>
                  <a:lnTo>
                    <a:pt x="198" y="1122"/>
                  </a:lnTo>
                  <a:lnTo>
                    <a:pt x="164" y="1085"/>
                  </a:lnTo>
                  <a:lnTo>
                    <a:pt x="135" y="1046"/>
                  </a:lnTo>
                  <a:lnTo>
                    <a:pt x="107" y="1005"/>
                  </a:lnTo>
                  <a:lnTo>
                    <a:pt x="84" y="964"/>
                  </a:lnTo>
                  <a:lnTo>
                    <a:pt x="63" y="922"/>
                  </a:lnTo>
                  <a:lnTo>
                    <a:pt x="47" y="878"/>
                  </a:lnTo>
                  <a:lnTo>
                    <a:pt x="32" y="833"/>
                  </a:lnTo>
                  <a:lnTo>
                    <a:pt x="22" y="7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136760" y="2081160"/>
              <a:ext cx="4756320" cy="1792080"/>
            </a:xfrm>
            <a:custGeom>
              <a:avLst/>
              <a:gdLst/>
              <a:ahLst/>
              <a:rect l="l" t="t" r="r" b="b"/>
              <a:pathLst>
                <a:path w="3705" h="1562">
                  <a:moveTo>
                    <a:pt x="1845" y="1562"/>
                  </a:moveTo>
                  <a:lnTo>
                    <a:pt x="1933" y="1562"/>
                  </a:lnTo>
                  <a:lnTo>
                    <a:pt x="2021" y="1558"/>
                  </a:lnTo>
                  <a:lnTo>
                    <a:pt x="2105" y="1555"/>
                  </a:lnTo>
                  <a:lnTo>
                    <a:pt x="2190" y="1550"/>
                  </a:lnTo>
                  <a:lnTo>
                    <a:pt x="2271" y="1544"/>
                  </a:lnTo>
                  <a:lnTo>
                    <a:pt x="2353" y="1536"/>
                  </a:lnTo>
                  <a:lnTo>
                    <a:pt x="2431" y="1526"/>
                  </a:lnTo>
                  <a:lnTo>
                    <a:pt x="2507" y="1515"/>
                  </a:lnTo>
                  <a:lnTo>
                    <a:pt x="2582" y="1503"/>
                  </a:lnTo>
                  <a:lnTo>
                    <a:pt x="2655" y="1489"/>
                  </a:lnTo>
                  <a:lnTo>
                    <a:pt x="2727" y="1474"/>
                  </a:lnTo>
                  <a:lnTo>
                    <a:pt x="2795" y="1458"/>
                  </a:lnTo>
                  <a:lnTo>
                    <a:pt x="2864" y="1440"/>
                  </a:lnTo>
                  <a:lnTo>
                    <a:pt x="2927" y="1420"/>
                  </a:lnTo>
                  <a:lnTo>
                    <a:pt x="2990" y="1399"/>
                  </a:lnTo>
                  <a:lnTo>
                    <a:pt x="3051" y="1378"/>
                  </a:lnTo>
                  <a:lnTo>
                    <a:pt x="3109" y="1354"/>
                  </a:lnTo>
                  <a:lnTo>
                    <a:pt x="3164" y="1329"/>
                  </a:lnTo>
                  <a:lnTo>
                    <a:pt x="3218" y="1303"/>
                  </a:lnTo>
                  <a:lnTo>
                    <a:pt x="3270" y="1276"/>
                  </a:lnTo>
                  <a:lnTo>
                    <a:pt x="3319" y="1248"/>
                  </a:lnTo>
                  <a:lnTo>
                    <a:pt x="3365" y="1217"/>
                  </a:lnTo>
                  <a:lnTo>
                    <a:pt x="3408" y="1186"/>
                  </a:lnTo>
                  <a:lnTo>
                    <a:pt x="3449" y="1154"/>
                  </a:lnTo>
                  <a:lnTo>
                    <a:pt x="3488" y="1120"/>
                  </a:lnTo>
                  <a:lnTo>
                    <a:pt x="3524" y="1084"/>
                  </a:lnTo>
                  <a:lnTo>
                    <a:pt x="3557" y="1046"/>
                  </a:lnTo>
                  <a:lnTo>
                    <a:pt x="3587" y="1009"/>
                  </a:lnTo>
                  <a:lnTo>
                    <a:pt x="3613" y="970"/>
                  </a:lnTo>
                  <a:lnTo>
                    <a:pt x="3638" y="929"/>
                  </a:lnTo>
                  <a:lnTo>
                    <a:pt x="3661" y="887"/>
                  </a:lnTo>
                  <a:lnTo>
                    <a:pt x="3679" y="845"/>
                  </a:lnTo>
                  <a:lnTo>
                    <a:pt x="3696" y="786"/>
                  </a:lnTo>
                  <a:lnTo>
                    <a:pt x="3705" y="723"/>
                  </a:lnTo>
                  <a:lnTo>
                    <a:pt x="3705" y="656"/>
                  </a:lnTo>
                  <a:lnTo>
                    <a:pt x="3700" y="591"/>
                  </a:lnTo>
                  <a:lnTo>
                    <a:pt x="3690" y="530"/>
                  </a:lnTo>
                  <a:lnTo>
                    <a:pt x="3677" y="474"/>
                  </a:lnTo>
                  <a:lnTo>
                    <a:pt x="3662" y="429"/>
                  </a:lnTo>
                  <a:lnTo>
                    <a:pt x="3648" y="396"/>
                  </a:lnTo>
                  <a:lnTo>
                    <a:pt x="3628" y="365"/>
                  </a:lnTo>
                  <a:lnTo>
                    <a:pt x="3605" y="334"/>
                  </a:lnTo>
                  <a:lnTo>
                    <a:pt x="3579" y="307"/>
                  </a:lnTo>
                  <a:lnTo>
                    <a:pt x="3550" y="279"/>
                  </a:lnTo>
                  <a:lnTo>
                    <a:pt x="3519" y="255"/>
                  </a:lnTo>
                  <a:lnTo>
                    <a:pt x="3483" y="230"/>
                  </a:lnTo>
                  <a:lnTo>
                    <a:pt x="3446" y="209"/>
                  </a:lnTo>
                  <a:lnTo>
                    <a:pt x="3405" y="188"/>
                  </a:lnTo>
                  <a:lnTo>
                    <a:pt x="3361" y="169"/>
                  </a:lnTo>
                  <a:lnTo>
                    <a:pt x="3314" y="151"/>
                  </a:lnTo>
                  <a:lnTo>
                    <a:pt x="3267" y="135"/>
                  </a:lnTo>
                  <a:lnTo>
                    <a:pt x="3215" y="118"/>
                  </a:lnTo>
                  <a:lnTo>
                    <a:pt x="3161" y="104"/>
                  </a:lnTo>
                  <a:lnTo>
                    <a:pt x="3106" y="91"/>
                  </a:lnTo>
                  <a:lnTo>
                    <a:pt x="3049" y="79"/>
                  </a:lnTo>
                  <a:lnTo>
                    <a:pt x="2989" y="68"/>
                  </a:lnTo>
                  <a:lnTo>
                    <a:pt x="2927" y="58"/>
                  </a:lnTo>
                  <a:lnTo>
                    <a:pt x="2865" y="48"/>
                  </a:lnTo>
                  <a:lnTo>
                    <a:pt x="2800" y="40"/>
                  </a:lnTo>
                  <a:lnTo>
                    <a:pt x="2733" y="34"/>
                  </a:lnTo>
                  <a:lnTo>
                    <a:pt x="2665" y="27"/>
                  </a:lnTo>
                  <a:lnTo>
                    <a:pt x="2595" y="22"/>
                  </a:lnTo>
                  <a:lnTo>
                    <a:pt x="2525" y="17"/>
                  </a:lnTo>
                  <a:lnTo>
                    <a:pt x="2452" y="13"/>
                  </a:lnTo>
                  <a:lnTo>
                    <a:pt x="2379" y="9"/>
                  </a:lnTo>
                  <a:lnTo>
                    <a:pt x="2306" y="6"/>
                  </a:lnTo>
                  <a:lnTo>
                    <a:pt x="2231" y="4"/>
                  </a:lnTo>
                  <a:lnTo>
                    <a:pt x="2154" y="3"/>
                  </a:lnTo>
                  <a:lnTo>
                    <a:pt x="2078" y="1"/>
                  </a:lnTo>
                  <a:lnTo>
                    <a:pt x="2001" y="0"/>
                  </a:lnTo>
                  <a:lnTo>
                    <a:pt x="1923" y="0"/>
                  </a:lnTo>
                  <a:lnTo>
                    <a:pt x="1845" y="0"/>
                  </a:lnTo>
                  <a:lnTo>
                    <a:pt x="1765" y="0"/>
                  </a:lnTo>
                  <a:lnTo>
                    <a:pt x="1686" y="0"/>
                  </a:lnTo>
                  <a:lnTo>
                    <a:pt x="1608" y="1"/>
                  </a:lnTo>
                  <a:lnTo>
                    <a:pt x="1530" y="1"/>
                  </a:lnTo>
                  <a:lnTo>
                    <a:pt x="1451" y="3"/>
                  </a:lnTo>
                  <a:lnTo>
                    <a:pt x="1375" y="4"/>
                  </a:lnTo>
                  <a:lnTo>
                    <a:pt x="1300" y="8"/>
                  </a:lnTo>
                  <a:lnTo>
                    <a:pt x="1225" y="9"/>
                  </a:lnTo>
                  <a:lnTo>
                    <a:pt x="1151" y="13"/>
                  </a:lnTo>
                  <a:lnTo>
                    <a:pt x="1079" y="17"/>
                  </a:lnTo>
                  <a:lnTo>
                    <a:pt x="1007" y="22"/>
                  </a:lnTo>
                  <a:lnTo>
                    <a:pt x="939" y="29"/>
                  </a:lnTo>
                  <a:lnTo>
                    <a:pt x="871" y="35"/>
                  </a:lnTo>
                  <a:lnTo>
                    <a:pt x="804" y="42"/>
                  </a:lnTo>
                  <a:lnTo>
                    <a:pt x="741" y="50"/>
                  </a:lnTo>
                  <a:lnTo>
                    <a:pt x="677" y="60"/>
                  </a:lnTo>
                  <a:lnTo>
                    <a:pt x="617" y="71"/>
                  </a:lnTo>
                  <a:lnTo>
                    <a:pt x="558" y="82"/>
                  </a:lnTo>
                  <a:lnTo>
                    <a:pt x="503" y="96"/>
                  </a:lnTo>
                  <a:lnTo>
                    <a:pt x="449" y="109"/>
                  </a:lnTo>
                  <a:lnTo>
                    <a:pt x="399" y="125"/>
                  </a:lnTo>
                  <a:lnTo>
                    <a:pt x="350" y="141"/>
                  </a:lnTo>
                  <a:lnTo>
                    <a:pt x="305" y="159"/>
                  </a:lnTo>
                  <a:lnTo>
                    <a:pt x="262" y="178"/>
                  </a:lnTo>
                  <a:lnTo>
                    <a:pt x="223" y="200"/>
                  </a:lnTo>
                  <a:lnTo>
                    <a:pt x="186" y="222"/>
                  </a:lnTo>
                  <a:lnTo>
                    <a:pt x="153" y="247"/>
                  </a:lnTo>
                  <a:lnTo>
                    <a:pt x="124" y="273"/>
                  </a:lnTo>
                  <a:lnTo>
                    <a:pt x="96" y="300"/>
                  </a:lnTo>
                  <a:lnTo>
                    <a:pt x="74" y="330"/>
                  </a:lnTo>
                  <a:lnTo>
                    <a:pt x="54" y="362"/>
                  </a:lnTo>
                  <a:lnTo>
                    <a:pt x="39" y="395"/>
                  </a:lnTo>
                  <a:lnTo>
                    <a:pt x="22" y="448"/>
                  </a:lnTo>
                  <a:lnTo>
                    <a:pt x="9" y="497"/>
                  </a:lnTo>
                  <a:lnTo>
                    <a:pt x="2" y="544"/>
                  </a:lnTo>
                  <a:lnTo>
                    <a:pt x="0" y="590"/>
                  </a:lnTo>
                  <a:lnTo>
                    <a:pt x="2" y="634"/>
                  </a:lnTo>
                  <a:lnTo>
                    <a:pt x="7" y="677"/>
                  </a:lnTo>
                  <a:lnTo>
                    <a:pt x="13" y="721"/>
                  </a:lnTo>
                  <a:lnTo>
                    <a:pt x="22" y="767"/>
                  </a:lnTo>
                  <a:lnTo>
                    <a:pt x="33" y="816"/>
                  </a:lnTo>
                  <a:lnTo>
                    <a:pt x="48" y="864"/>
                  </a:lnTo>
                  <a:lnTo>
                    <a:pt x="67" y="910"/>
                  </a:lnTo>
                  <a:lnTo>
                    <a:pt x="90" y="955"/>
                  </a:lnTo>
                  <a:lnTo>
                    <a:pt x="116" y="998"/>
                  </a:lnTo>
                  <a:lnTo>
                    <a:pt x="145" y="1040"/>
                  </a:lnTo>
                  <a:lnTo>
                    <a:pt x="179" y="1079"/>
                  </a:lnTo>
                  <a:lnTo>
                    <a:pt x="215" y="1118"/>
                  </a:lnTo>
                  <a:lnTo>
                    <a:pt x="254" y="1154"/>
                  </a:lnTo>
                  <a:lnTo>
                    <a:pt x="296" y="1189"/>
                  </a:lnTo>
                  <a:lnTo>
                    <a:pt x="344" y="1222"/>
                  </a:lnTo>
                  <a:lnTo>
                    <a:pt x="391" y="1255"/>
                  </a:lnTo>
                  <a:lnTo>
                    <a:pt x="443" y="1284"/>
                  </a:lnTo>
                  <a:lnTo>
                    <a:pt x="497" y="1313"/>
                  </a:lnTo>
                  <a:lnTo>
                    <a:pt x="554" y="1341"/>
                  </a:lnTo>
                  <a:lnTo>
                    <a:pt x="614" y="1365"/>
                  </a:lnTo>
                  <a:lnTo>
                    <a:pt x="676" y="1389"/>
                  </a:lnTo>
                  <a:lnTo>
                    <a:pt x="741" y="1412"/>
                  </a:lnTo>
                  <a:lnTo>
                    <a:pt x="807" y="1432"/>
                  </a:lnTo>
                  <a:lnTo>
                    <a:pt x="876" y="1451"/>
                  </a:lnTo>
                  <a:lnTo>
                    <a:pt x="947" y="1469"/>
                  </a:lnTo>
                  <a:lnTo>
                    <a:pt x="1020" y="1485"/>
                  </a:lnTo>
                  <a:lnTo>
                    <a:pt x="1095" y="1500"/>
                  </a:lnTo>
                  <a:lnTo>
                    <a:pt x="1172" y="1513"/>
                  </a:lnTo>
                  <a:lnTo>
                    <a:pt x="1251" y="1524"/>
                  </a:lnTo>
                  <a:lnTo>
                    <a:pt x="1331" y="1534"/>
                  </a:lnTo>
                  <a:lnTo>
                    <a:pt x="1414" y="1542"/>
                  </a:lnTo>
                  <a:lnTo>
                    <a:pt x="1497" y="1550"/>
                  </a:lnTo>
                  <a:lnTo>
                    <a:pt x="1582" y="1555"/>
                  </a:lnTo>
                  <a:lnTo>
                    <a:pt x="1669" y="1558"/>
                  </a:lnTo>
                  <a:lnTo>
                    <a:pt x="1756" y="1562"/>
                  </a:lnTo>
                  <a:lnTo>
                    <a:pt x="1845" y="1562"/>
                  </a:lnTo>
                  <a:close/>
                </a:path>
              </a:pathLst>
            </a:custGeom>
            <a:solidFill>
              <a:srgbClr val="0c2e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143240" y="1758600"/>
              <a:ext cx="4721400" cy="1797120"/>
            </a:xfrm>
            <a:custGeom>
              <a:avLst/>
              <a:gdLst/>
              <a:ahLst/>
              <a:rect l="l" t="t" r="r" b="b"/>
              <a:pathLst>
                <a:path w="3678" h="1565">
                  <a:moveTo>
                    <a:pt x="0" y="784"/>
                  </a:moveTo>
                  <a:lnTo>
                    <a:pt x="2" y="745"/>
                  </a:lnTo>
                  <a:lnTo>
                    <a:pt x="8" y="707"/>
                  </a:lnTo>
                  <a:lnTo>
                    <a:pt x="20" y="670"/>
                  </a:lnTo>
                  <a:lnTo>
                    <a:pt x="36" y="632"/>
                  </a:lnTo>
                  <a:lnTo>
                    <a:pt x="56" y="595"/>
                  </a:lnTo>
                  <a:lnTo>
                    <a:pt x="80" y="558"/>
                  </a:lnTo>
                  <a:lnTo>
                    <a:pt x="109" y="522"/>
                  </a:lnTo>
                  <a:lnTo>
                    <a:pt x="143" y="486"/>
                  </a:lnTo>
                  <a:lnTo>
                    <a:pt x="171" y="458"/>
                  </a:lnTo>
                  <a:lnTo>
                    <a:pt x="202" y="432"/>
                  </a:lnTo>
                  <a:lnTo>
                    <a:pt x="235" y="406"/>
                  </a:lnTo>
                  <a:lnTo>
                    <a:pt x="270" y="382"/>
                  </a:lnTo>
                  <a:lnTo>
                    <a:pt x="306" y="358"/>
                  </a:lnTo>
                  <a:lnTo>
                    <a:pt x="345" y="333"/>
                  </a:lnTo>
                  <a:lnTo>
                    <a:pt x="386" y="310"/>
                  </a:lnTo>
                  <a:lnTo>
                    <a:pt x="428" y="288"/>
                  </a:lnTo>
                  <a:lnTo>
                    <a:pt x="474" y="265"/>
                  </a:lnTo>
                  <a:lnTo>
                    <a:pt x="519" y="244"/>
                  </a:lnTo>
                  <a:lnTo>
                    <a:pt x="568" y="224"/>
                  </a:lnTo>
                  <a:lnTo>
                    <a:pt x="617" y="205"/>
                  </a:lnTo>
                  <a:lnTo>
                    <a:pt x="667" y="185"/>
                  </a:lnTo>
                  <a:lnTo>
                    <a:pt x="719" y="167"/>
                  </a:lnTo>
                  <a:lnTo>
                    <a:pt x="773" y="150"/>
                  </a:lnTo>
                  <a:lnTo>
                    <a:pt x="828" y="133"/>
                  </a:lnTo>
                  <a:lnTo>
                    <a:pt x="885" y="119"/>
                  </a:lnTo>
                  <a:lnTo>
                    <a:pt x="942" y="104"/>
                  </a:lnTo>
                  <a:lnTo>
                    <a:pt x="1002" y="89"/>
                  </a:lnTo>
                  <a:lnTo>
                    <a:pt x="1061" y="76"/>
                  </a:lnTo>
                  <a:lnTo>
                    <a:pt x="1123" y="65"/>
                  </a:lnTo>
                  <a:lnTo>
                    <a:pt x="1185" y="54"/>
                  </a:lnTo>
                  <a:lnTo>
                    <a:pt x="1246" y="44"/>
                  </a:lnTo>
                  <a:lnTo>
                    <a:pt x="1310" y="36"/>
                  </a:lnTo>
                  <a:lnTo>
                    <a:pt x="1375" y="28"/>
                  </a:lnTo>
                  <a:lnTo>
                    <a:pt x="1440" y="20"/>
                  </a:lnTo>
                  <a:lnTo>
                    <a:pt x="1505" y="15"/>
                  </a:lnTo>
                  <a:lnTo>
                    <a:pt x="1572" y="10"/>
                  </a:lnTo>
                  <a:lnTo>
                    <a:pt x="1638" y="5"/>
                  </a:lnTo>
                  <a:lnTo>
                    <a:pt x="1705" y="2"/>
                  </a:lnTo>
                  <a:lnTo>
                    <a:pt x="1772" y="0"/>
                  </a:lnTo>
                  <a:lnTo>
                    <a:pt x="1840" y="0"/>
                  </a:lnTo>
                  <a:lnTo>
                    <a:pt x="1908" y="0"/>
                  </a:lnTo>
                  <a:lnTo>
                    <a:pt x="1975" y="2"/>
                  </a:lnTo>
                  <a:lnTo>
                    <a:pt x="2042" y="5"/>
                  </a:lnTo>
                  <a:lnTo>
                    <a:pt x="2109" y="10"/>
                  </a:lnTo>
                  <a:lnTo>
                    <a:pt x="2175" y="15"/>
                  </a:lnTo>
                  <a:lnTo>
                    <a:pt x="2240" y="20"/>
                  </a:lnTo>
                  <a:lnTo>
                    <a:pt x="2305" y="28"/>
                  </a:lnTo>
                  <a:lnTo>
                    <a:pt x="2369" y="36"/>
                  </a:lnTo>
                  <a:lnTo>
                    <a:pt x="2432" y="44"/>
                  </a:lnTo>
                  <a:lnTo>
                    <a:pt x="2496" y="54"/>
                  </a:lnTo>
                  <a:lnTo>
                    <a:pt x="2558" y="65"/>
                  </a:lnTo>
                  <a:lnTo>
                    <a:pt x="2618" y="76"/>
                  </a:lnTo>
                  <a:lnTo>
                    <a:pt x="2678" y="89"/>
                  </a:lnTo>
                  <a:lnTo>
                    <a:pt x="2737" y="104"/>
                  </a:lnTo>
                  <a:lnTo>
                    <a:pt x="2793" y="119"/>
                  </a:lnTo>
                  <a:lnTo>
                    <a:pt x="2850" y="133"/>
                  </a:lnTo>
                  <a:lnTo>
                    <a:pt x="2906" y="150"/>
                  </a:lnTo>
                  <a:lnTo>
                    <a:pt x="2959" y="167"/>
                  </a:lnTo>
                  <a:lnTo>
                    <a:pt x="3011" y="185"/>
                  </a:lnTo>
                  <a:lnTo>
                    <a:pt x="3062" y="205"/>
                  </a:lnTo>
                  <a:lnTo>
                    <a:pt x="3112" y="224"/>
                  </a:lnTo>
                  <a:lnTo>
                    <a:pt x="3159" y="244"/>
                  </a:lnTo>
                  <a:lnTo>
                    <a:pt x="3205" y="265"/>
                  </a:lnTo>
                  <a:lnTo>
                    <a:pt x="3251" y="288"/>
                  </a:lnTo>
                  <a:lnTo>
                    <a:pt x="3293" y="310"/>
                  </a:lnTo>
                  <a:lnTo>
                    <a:pt x="3334" y="333"/>
                  </a:lnTo>
                  <a:lnTo>
                    <a:pt x="3373" y="358"/>
                  </a:lnTo>
                  <a:lnTo>
                    <a:pt x="3408" y="382"/>
                  </a:lnTo>
                  <a:lnTo>
                    <a:pt x="3444" y="406"/>
                  </a:lnTo>
                  <a:lnTo>
                    <a:pt x="3477" y="432"/>
                  </a:lnTo>
                  <a:lnTo>
                    <a:pt x="3508" y="458"/>
                  </a:lnTo>
                  <a:lnTo>
                    <a:pt x="3535" y="486"/>
                  </a:lnTo>
                  <a:lnTo>
                    <a:pt x="3568" y="522"/>
                  </a:lnTo>
                  <a:lnTo>
                    <a:pt x="3597" y="558"/>
                  </a:lnTo>
                  <a:lnTo>
                    <a:pt x="3621" y="595"/>
                  </a:lnTo>
                  <a:lnTo>
                    <a:pt x="3643" y="632"/>
                  </a:lnTo>
                  <a:lnTo>
                    <a:pt x="3657" y="670"/>
                  </a:lnTo>
                  <a:lnTo>
                    <a:pt x="3669" y="707"/>
                  </a:lnTo>
                  <a:lnTo>
                    <a:pt x="3677" y="745"/>
                  </a:lnTo>
                  <a:lnTo>
                    <a:pt x="3678" y="784"/>
                  </a:lnTo>
                  <a:lnTo>
                    <a:pt x="3675" y="823"/>
                  </a:lnTo>
                  <a:lnTo>
                    <a:pt x="3669" y="862"/>
                  </a:lnTo>
                  <a:lnTo>
                    <a:pt x="3657" y="901"/>
                  </a:lnTo>
                  <a:lnTo>
                    <a:pt x="3641" y="938"/>
                  </a:lnTo>
                  <a:lnTo>
                    <a:pt x="3620" y="975"/>
                  </a:lnTo>
                  <a:lnTo>
                    <a:pt x="3594" y="1013"/>
                  </a:lnTo>
                  <a:lnTo>
                    <a:pt x="3565" y="1048"/>
                  </a:lnTo>
                  <a:lnTo>
                    <a:pt x="3532" y="1084"/>
                  </a:lnTo>
                  <a:lnTo>
                    <a:pt x="3495" y="1118"/>
                  </a:lnTo>
                  <a:lnTo>
                    <a:pt x="3452" y="1153"/>
                  </a:lnTo>
                  <a:lnTo>
                    <a:pt x="3408" y="1185"/>
                  </a:lnTo>
                  <a:lnTo>
                    <a:pt x="3360" y="1216"/>
                  </a:lnTo>
                  <a:lnTo>
                    <a:pt x="3308" y="1247"/>
                  </a:lnTo>
                  <a:lnTo>
                    <a:pt x="3252" y="1278"/>
                  </a:lnTo>
                  <a:lnTo>
                    <a:pt x="3194" y="1305"/>
                  </a:lnTo>
                  <a:lnTo>
                    <a:pt x="3133" y="1333"/>
                  </a:lnTo>
                  <a:lnTo>
                    <a:pt x="3068" y="1359"/>
                  </a:lnTo>
                  <a:lnTo>
                    <a:pt x="3002" y="1383"/>
                  </a:lnTo>
                  <a:lnTo>
                    <a:pt x="2932" y="1408"/>
                  </a:lnTo>
                  <a:lnTo>
                    <a:pt x="2859" y="1429"/>
                  </a:lnTo>
                  <a:lnTo>
                    <a:pt x="2785" y="1450"/>
                  </a:lnTo>
                  <a:lnTo>
                    <a:pt x="2707" y="1469"/>
                  </a:lnTo>
                  <a:lnTo>
                    <a:pt x="2629" y="1487"/>
                  </a:lnTo>
                  <a:lnTo>
                    <a:pt x="2548" y="1502"/>
                  </a:lnTo>
                  <a:lnTo>
                    <a:pt x="2465" y="1517"/>
                  </a:lnTo>
                  <a:lnTo>
                    <a:pt x="2380" y="1530"/>
                  </a:lnTo>
                  <a:lnTo>
                    <a:pt x="2292" y="1541"/>
                  </a:lnTo>
                  <a:lnTo>
                    <a:pt x="2205" y="1549"/>
                  </a:lnTo>
                  <a:lnTo>
                    <a:pt x="2115" y="1556"/>
                  </a:lnTo>
                  <a:lnTo>
                    <a:pt x="2026" y="1561"/>
                  </a:lnTo>
                  <a:lnTo>
                    <a:pt x="1933" y="1564"/>
                  </a:lnTo>
                  <a:lnTo>
                    <a:pt x="1840" y="1565"/>
                  </a:lnTo>
                  <a:lnTo>
                    <a:pt x="1772" y="1565"/>
                  </a:lnTo>
                  <a:lnTo>
                    <a:pt x="1705" y="1564"/>
                  </a:lnTo>
                  <a:lnTo>
                    <a:pt x="1638" y="1561"/>
                  </a:lnTo>
                  <a:lnTo>
                    <a:pt x="1572" y="1556"/>
                  </a:lnTo>
                  <a:lnTo>
                    <a:pt x="1505" y="1551"/>
                  </a:lnTo>
                  <a:lnTo>
                    <a:pt x="1440" y="1546"/>
                  </a:lnTo>
                  <a:lnTo>
                    <a:pt x="1375" y="1538"/>
                  </a:lnTo>
                  <a:lnTo>
                    <a:pt x="1310" y="1530"/>
                  </a:lnTo>
                  <a:lnTo>
                    <a:pt x="1246" y="1522"/>
                  </a:lnTo>
                  <a:lnTo>
                    <a:pt x="1185" y="1512"/>
                  </a:lnTo>
                  <a:lnTo>
                    <a:pt x="1123" y="1500"/>
                  </a:lnTo>
                  <a:lnTo>
                    <a:pt x="1061" y="1489"/>
                  </a:lnTo>
                  <a:lnTo>
                    <a:pt x="1002" y="1476"/>
                  </a:lnTo>
                  <a:lnTo>
                    <a:pt x="942" y="1461"/>
                  </a:lnTo>
                  <a:lnTo>
                    <a:pt x="885" y="1447"/>
                  </a:lnTo>
                  <a:lnTo>
                    <a:pt x="828" y="1432"/>
                  </a:lnTo>
                  <a:lnTo>
                    <a:pt x="773" y="1416"/>
                  </a:lnTo>
                  <a:lnTo>
                    <a:pt x="719" y="1398"/>
                  </a:lnTo>
                  <a:lnTo>
                    <a:pt x="667" y="1380"/>
                  </a:lnTo>
                  <a:lnTo>
                    <a:pt x="617" y="1362"/>
                  </a:lnTo>
                  <a:lnTo>
                    <a:pt x="568" y="1341"/>
                  </a:lnTo>
                  <a:lnTo>
                    <a:pt x="519" y="1322"/>
                  </a:lnTo>
                  <a:lnTo>
                    <a:pt x="474" y="1300"/>
                  </a:lnTo>
                  <a:lnTo>
                    <a:pt x="428" y="1279"/>
                  </a:lnTo>
                  <a:lnTo>
                    <a:pt x="386" y="1257"/>
                  </a:lnTo>
                  <a:lnTo>
                    <a:pt x="345" y="1234"/>
                  </a:lnTo>
                  <a:lnTo>
                    <a:pt x="306" y="1209"/>
                  </a:lnTo>
                  <a:lnTo>
                    <a:pt x="270" y="1185"/>
                  </a:lnTo>
                  <a:lnTo>
                    <a:pt x="235" y="1159"/>
                  </a:lnTo>
                  <a:lnTo>
                    <a:pt x="202" y="1135"/>
                  </a:lnTo>
                  <a:lnTo>
                    <a:pt x="171" y="1109"/>
                  </a:lnTo>
                  <a:lnTo>
                    <a:pt x="143" y="1081"/>
                  </a:lnTo>
                  <a:lnTo>
                    <a:pt x="109" y="1045"/>
                  </a:lnTo>
                  <a:lnTo>
                    <a:pt x="80" y="1009"/>
                  </a:lnTo>
                  <a:lnTo>
                    <a:pt x="56" y="972"/>
                  </a:lnTo>
                  <a:lnTo>
                    <a:pt x="36" y="935"/>
                  </a:lnTo>
                  <a:lnTo>
                    <a:pt x="20" y="897"/>
                  </a:lnTo>
                  <a:lnTo>
                    <a:pt x="8" y="860"/>
                  </a:lnTo>
                  <a:lnTo>
                    <a:pt x="2" y="823"/>
                  </a:lnTo>
                  <a:lnTo>
                    <a:pt x="0" y="7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165560" y="1779480"/>
              <a:ext cx="4680000" cy="1757160"/>
            </a:xfrm>
            <a:custGeom>
              <a:avLst/>
              <a:gdLst/>
              <a:ahLst/>
              <a:rect l="l" t="t" r="r" b="b"/>
              <a:pathLst>
                <a:path w="3645" h="1531">
                  <a:moveTo>
                    <a:pt x="1823" y="1531"/>
                  </a:moveTo>
                  <a:lnTo>
                    <a:pt x="1913" y="1530"/>
                  </a:lnTo>
                  <a:lnTo>
                    <a:pt x="2000" y="1528"/>
                  </a:lnTo>
                  <a:lnTo>
                    <a:pt x="2088" y="1523"/>
                  </a:lnTo>
                  <a:lnTo>
                    <a:pt x="2175" y="1515"/>
                  </a:lnTo>
                  <a:lnTo>
                    <a:pt x="2261" y="1507"/>
                  </a:lnTo>
                  <a:lnTo>
                    <a:pt x="2345" y="1497"/>
                  </a:lnTo>
                  <a:lnTo>
                    <a:pt x="2428" y="1484"/>
                  </a:lnTo>
                  <a:lnTo>
                    <a:pt x="2510" y="1471"/>
                  </a:lnTo>
                  <a:lnTo>
                    <a:pt x="2589" y="1456"/>
                  </a:lnTo>
                  <a:lnTo>
                    <a:pt x="2667" y="1438"/>
                  </a:lnTo>
                  <a:lnTo>
                    <a:pt x="2744" y="1421"/>
                  </a:lnTo>
                  <a:lnTo>
                    <a:pt x="2817" y="1401"/>
                  </a:lnTo>
                  <a:lnTo>
                    <a:pt x="2890" y="1378"/>
                  </a:lnTo>
                  <a:lnTo>
                    <a:pt x="2959" y="1356"/>
                  </a:lnTo>
                  <a:lnTo>
                    <a:pt x="3027" y="1333"/>
                  </a:lnTo>
                  <a:lnTo>
                    <a:pt x="3090" y="1307"/>
                  </a:lnTo>
                  <a:lnTo>
                    <a:pt x="3152" y="1281"/>
                  </a:lnTo>
                  <a:lnTo>
                    <a:pt x="3211" y="1253"/>
                  </a:lnTo>
                  <a:lnTo>
                    <a:pt x="3268" y="1224"/>
                  </a:lnTo>
                  <a:lnTo>
                    <a:pt x="3320" y="1193"/>
                  </a:lnTo>
                  <a:lnTo>
                    <a:pt x="3369" y="1162"/>
                  </a:lnTo>
                  <a:lnTo>
                    <a:pt x="3414" y="1130"/>
                  </a:lnTo>
                  <a:lnTo>
                    <a:pt x="3456" y="1097"/>
                  </a:lnTo>
                  <a:lnTo>
                    <a:pt x="3494" y="1063"/>
                  </a:lnTo>
                  <a:lnTo>
                    <a:pt x="3528" y="1029"/>
                  </a:lnTo>
                  <a:lnTo>
                    <a:pt x="3559" y="993"/>
                  </a:lnTo>
                  <a:lnTo>
                    <a:pt x="3585" y="957"/>
                  </a:lnTo>
                  <a:lnTo>
                    <a:pt x="3606" y="920"/>
                  </a:lnTo>
                  <a:lnTo>
                    <a:pt x="3622" y="883"/>
                  </a:lnTo>
                  <a:lnTo>
                    <a:pt x="3635" y="844"/>
                  </a:lnTo>
                  <a:lnTo>
                    <a:pt x="3642" y="805"/>
                  </a:lnTo>
                  <a:lnTo>
                    <a:pt x="3645" y="766"/>
                  </a:lnTo>
                  <a:lnTo>
                    <a:pt x="3642" y="727"/>
                  </a:lnTo>
                  <a:lnTo>
                    <a:pt x="3635" y="687"/>
                  </a:lnTo>
                  <a:lnTo>
                    <a:pt x="3622" y="648"/>
                  </a:lnTo>
                  <a:lnTo>
                    <a:pt x="3606" y="611"/>
                  </a:lnTo>
                  <a:lnTo>
                    <a:pt x="3585" y="574"/>
                  </a:lnTo>
                  <a:lnTo>
                    <a:pt x="3559" y="538"/>
                  </a:lnTo>
                  <a:lnTo>
                    <a:pt x="3528" y="502"/>
                  </a:lnTo>
                  <a:lnTo>
                    <a:pt x="3494" y="468"/>
                  </a:lnTo>
                  <a:lnTo>
                    <a:pt x="3456" y="434"/>
                  </a:lnTo>
                  <a:lnTo>
                    <a:pt x="3414" y="401"/>
                  </a:lnTo>
                  <a:lnTo>
                    <a:pt x="3369" y="369"/>
                  </a:lnTo>
                  <a:lnTo>
                    <a:pt x="3320" y="338"/>
                  </a:lnTo>
                  <a:lnTo>
                    <a:pt x="3268" y="307"/>
                  </a:lnTo>
                  <a:lnTo>
                    <a:pt x="3211" y="278"/>
                  </a:lnTo>
                  <a:lnTo>
                    <a:pt x="3152" y="250"/>
                  </a:lnTo>
                  <a:lnTo>
                    <a:pt x="3090" y="224"/>
                  </a:lnTo>
                  <a:lnTo>
                    <a:pt x="3027" y="198"/>
                  </a:lnTo>
                  <a:lnTo>
                    <a:pt x="2959" y="175"/>
                  </a:lnTo>
                  <a:lnTo>
                    <a:pt x="2890" y="153"/>
                  </a:lnTo>
                  <a:lnTo>
                    <a:pt x="2817" y="130"/>
                  </a:lnTo>
                  <a:lnTo>
                    <a:pt x="2744" y="110"/>
                  </a:lnTo>
                  <a:lnTo>
                    <a:pt x="2667" y="93"/>
                  </a:lnTo>
                  <a:lnTo>
                    <a:pt x="2589" y="75"/>
                  </a:lnTo>
                  <a:lnTo>
                    <a:pt x="2510" y="60"/>
                  </a:lnTo>
                  <a:lnTo>
                    <a:pt x="2428" y="47"/>
                  </a:lnTo>
                  <a:lnTo>
                    <a:pt x="2345" y="34"/>
                  </a:lnTo>
                  <a:lnTo>
                    <a:pt x="2261" y="24"/>
                  </a:lnTo>
                  <a:lnTo>
                    <a:pt x="2175" y="16"/>
                  </a:lnTo>
                  <a:lnTo>
                    <a:pt x="2088" y="8"/>
                  </a:lnTo>
                  <a:lnTo>
                    <a:pt x="2000" y="3"/>
                  </a:lnTo>
                  <a:lnTo>
                    <a:pt x="1913" y="2"/>
                  </a:lnTo>
                  <a:lnTo>
                    <a:pt x="1823" y="0"/>
                  </a:lnTo>
                  <a:lnTo>
                    <a:pt x="1734" y="2"/>
                  </a:lnTo>
                  <a:lnTo>
                    <a:pt x="1646" y="3"/>
                  </a:lnTo>
                  <a:lnTo>
                    <a:pt x="1558" y="8"/>
                  </a:lnTo>
                  <a:lnTo>
                    <a:pt x="1472" y="16"/>
                  </a:lnTo>
                  <a:lnTo>
                    <a:pt x="1386" y="24"/>
                  </a:lnTo>
                  <a:lnTo>
                    <a:pt x="1301" y="34"/>
                  </a:lnTo>
                  <a:lnTo>
                    <a:pt x="1218" y="47"/>
                  </a:lnTo>
                  <a:lnTo>
                    <a:pt x="1137" y="60"/>
                  </a:lnTo>
                  <a:lnTo>
                    <a:pt x="1055" y="75"/>
                  </a:lnTo>
                  <a:lnTo>
                    <a:pt x="977" y="93"/>
                  </a:lnTo>
                  <a:lnTo>
                    <a:pt x="901" y="110"/>
                  </a:lnTo>
                  <a:lnTo>
                    <a:pt x="828" y="130"/>
                  </a:lnTo>
                  <a:lnTo>
                    <a:pt x="756" y="153"/>
                  </a:lnTo>
                  <a:lnTo>
                    <a:pt x="686" y="175"/>
                  </a:lnTo>
                  <a:lnTo>
                    <a:pt x="618" y="198"/>
                  </a:lnTo>
                  <a:lnTo>
                    <a:pt x="554" y="224"/>
                  </a:lnTo>
                  <a:lnTo>
                    <a:pt x="492" y="250"/>
                  </a:lnTo>
                  <a:lnTo>
                    <a:pt x="434" y="278"/>
                  </a:lnTo>
                  <a:lnTo>
                    <a:pt x="377" y="307"/>
                  </a:lnTo>
                  <a:lnTo>
                    <a:pt x="325" y="338"/>
                  </a:lnTo>
                  <a:lnTo>
                    <a:pt x="276" y="369"/>
                  </a:lnTo>
                  <a:lnTo>
                    <a:pt x="231" y="401"/>
                  </a:lnTo>
                  <a:lnTo>
                    <a:pt x="188" y="434"/>
                  </a:lnTo>
                  <a:lnTo>
                    <a:pt x="151" y="468"/>
                  </a:lnTo>
                  <a:lnTo>
                    <a:pt x="117" y="502"/>
                  </a:lnTo>
                  <a:lnTo>
                    <a:pt x="86" y="538"/>
                  </a:lnTo>
                  <a:lnTo>
                    <a:pt x="60" y="574"/>
                  </a:lnTo>
                  <a:lnTo>
                    <a:pt x="39" y="611"/>
                  </a:lnTo>
                  <a:lnTo>
                    <a:pt x="22" y="648"/>
                  </a:lnTo>
                  <a:lnTo>
                    <a:pt x="9" y="687"/>
                  </a:lnTo>
                  <a:lnTo>
                    <a:pt x="3" y="727"/>
                  </a:lnTo>
                  <a:lnTo>
                    <a:pt x="0" y="766"/>
                  </a:lnTo>
                  <a:lnTo>
                    <a:pt x="3" y="805"/>
                  </a:lnTo>
                  <a:lnTo>
                    <a:pt x="9" y="844"/>
                  </a:lnTo>
                  <a:lnTo>
                    <a:pt x="22" y="883"/>
                  </a:lnTo>
                  <a:lnTo>
                    <a:pt x="39" y="920"/>
                  </a:lnTo>
                  <a:lnTo>
                    <a:pt x="60" y="957"/>
                  </a:lnTo>
                  <a:lnTo>
                    <a:pt x="86" y="993"/>
                  </a:lnTo>
                  <a:lnTo>
                    <a:pt x="117" y="1029"/>
                  </a:lnTo>
                  <a:lnTo>
                    <a:pt x="151" y="1063"/>
                  </a:lnTo>
                  <a:lnTo>
                    <a:pt x="188" y="1097"/>
                  </a:lnTo>
                  <a:lnTo>
                    <a:pt x="231" y="1130"/>
                  </a:lnTo>
                  <a:lnTo>
                    <a:pt x="276" y="1162"/>
                  </a:lnTo>
                  <a:lnTo>
                    <a:pt x="325" y="1193"/>
                  </a:lnTo>
                  <a:lnTo>
                    <a:pt x="377" y="1224"/>
                  </a:lnTo>
                  <a:lnTo>
                    <a:pt x="434" y="1253"/>
                  </a:lnTo>
                  <a:lnTo>
                    <a:pt x="492" y="1281"/>
                  </a:lnTo>
                  <a:lnTo>
                    <a:pt x="554" y="1307"/>
                  </a:lnTo>
                  <a:lnTo>
                    <a:pt x="618" y="1333"/>
                  </a:lnTo>
                  <a:lnTo>
                    <a:pt x="686" y="1356"/>
                  </a:lnTo>
                  <a:lnTo>
                    <a:pt x="756" y="1378"/>
                  </a:lnTo>
                  <a:lnTo>
                    <a:pt x="828" y="1401"/>
                  </a:lnTo>
                  <a:lnTo>
                    <a:pt x="901" y="1421"/>
                  </a:lnTo>
                  <a:lnTo>
                    <a:pt x="977" y="1438"/>
                  </a:lnTo>
                  <a:lnTo>
                    <a:pt x="1055" y="1456"/>
                  </a:lnTo>
                  <a:lnTo>
                    <a:pt x="1137" y="1471"/>
                  </a:lnTo>
                  <a:lnTo>
                    <a:pt x="1218" y="1484"/>
                  </a:lnTo>
                  <a:lnTo>
                    <a:pt x="1301" y="1497"/>
                  </a:lnTo>
                  <a:lnTo>
                    <a:pt x="1386" y="1507"/>
                  </a:lnTo>
                  <a:lnTo>
                    <a:pt x="1472" y="1515"/>
                  </a:lnTo>
                  <a:lnTo>
                    <a:pt x="1558" y="1523"/>
                  </a:lnTo>
                  <a:lnTo>
                    <a:pt x="1646" y="1528"/>
                  </a:lnTo>
                  <a:lnTo>
                    <a:pt x="1734" y="1530"/>
                  </a:lnTo>
                  <a:lnTo>
                    <a:pt x="1823" y="1531"/>
                  </a:lnTo>
                  <a:close/>
                </a:path>
              </a:pathLst>
            </a:custGeom>
            <a:solidFill>
              <a:srgbClr val="f5e6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856040" y="1758600"/>
              <a:ext cx="3265560" cy="919440"/>
            </a:xfrm>
            <a:custGeom>
              <a:avLst/>
              <a:gdLst/>
              <a:ahLst/>
              <a:rect l="l" t="t" r="r" b="b"/>
              <a:pathLst>
                <a:path w="2544" h="800">
                  <a:moveTo>
                    <a:pt x="50" y="210"/>
                  </a:moveTo>
                  <a:lnTo>
                    <a:pt x="83" y="197"/>
                  </a:lnTo>
                  <a:lnTo>
                    <a:pt x="117" y="185"/>
                  </a:lnTo>
                  <a:lnTo>
                    <a:pt x="150" y="174"/>
                  </a:lnTo>
                  <a:lnTo>
                    <a:pt x="184" y="163"/>
                  </a:lnTo>
                  <a:lnTo>
                    <a:pt x="220" y="151"/>
                  </a:lnTo>
                  <a:lnTo>
                    <a:pt x="254" y="140"/>
                  </a:lnTo>
                  <a:lnTo>
                    <a:pt x="290" y="130"/>
                  </a:lnTo>
                  <a:lnTo>
                    <a:pt x="327" y="120"/>
                  </a:lnTo>
                  <a:lnTo>
                    <a:pt x="363" y="111"/>
                  </a:lnTo>
                  <a:lnTo>
                    <a:pt x="400" y="101"/>
                  </a:lnTo>
                  <a:lnTo>
                    <a:pt x="438" y="93"/>
                  </a:lnTo>
                  <a:lnTo>
                    <a:pt x="475" y="85"/>
                  </a:lnTo>
                  <a:lnTo>
                    <a:pt x="512" y="76"/>
                  </a:lnTo>
                  <a:lnTo>
                    <a:pt x="551" y="68"/>
                  </a:lnTo>
                  <a:lnTo>
                    <a:pt x="591" y="62"/>
                  </a:lnTo>
                  <a:lnTo>
                    <a:pt x="630" y="54"/>
                  </a:lnTo>
                  <a:lnTo>
                    <a:pt x="669" y="47"/>
                  </a:lnTo>
                  <a:lnTo>
                    <a:pt x="708" y="42"/>
                  </a:lnTo>
                  <a:lnTo>
                    <a:pt x="748" y="36"/>
                  </a:lnTo>
                  <a:lnTo>
                    <a:pt x="789" y="31"/>
                  </a:lnTo>
                  <a:lnTo>
                    <a:pt x="830" y="26"/>
                  </a:lnTo>
                  <a:lnTo>
                    <a:pt x="870" y="21"/>
                  </a:lnTo>
                  <a:lnTo>
                    <a:pt x="911" y="18"/>
                  </a:lnTo>
                  <a:lnTo>
                    <a:pt x="952" y="13"/>
                  </a:lnTo>
                  <a:lnTo>
                    <a:pt x="992" y="11"/>
                  </a:lnTo>
                  <a:lnTo>
                    <a:pt x="1035" y="8"/>
                  </a:lnTo>
                  <a:lnTo>
                    <a:pt x="1075" y="5"/>
                  </a:lnTo>
                  <a:lnTo>
                    <a:pt x="1118" y="3"/>
                  </a:lnTo>
                  <a:lnTo>
                    <a:pt x="1160" y="2"/>
                  </a:lnTo>
                  <a:lnTo>
                    <a:pt x="1201" y="2"/>
                  </a:lnTo>
                  <a:lnTo>
                    <a:pt x="1243" y="0"/>
                  </a:lnTo>
                  <a:lnTo>
                    <a:pt x="1285" y="0"/>
                  </a:lnTo>
                  <a:lnTo>
                    <a:pt x="1326" y="0"/>
                  </a:lnTo>
                  <a:lnTo>
                    <a:pt x="1367" y="2"/>
                  </a:lnTo>
                  <a:lnTo>
                    <a:pt x="1409" y="2"/>
                  </a:lnTo>
                  <a:lnTo>
                    <a:pt x="1449" y="3"/>
                  </a:lnTo>
                  <a:lnTo>
                    <a:pt x="1490" y="5"/>
                  </a:lnTo>
                  <a:lnTo>
                    <a:pt x="1531" y="8"/>
                  </a:lnTo>
                  <a:lnTo>
                    <a:pt x="1570" y="10"/>
                  </a:lnTo>
                  <a:lnTo>
                    <a:pt x="1611" y="13"/>
                  </a:lnTo>
                  <a:lnTo>
                    <a:pt x="1651" y="16"/>
                  </a:lnTo>
                  <a:lnTo>
                    <a:pt x="1690" y="21"/>
                  </a:lnTo>
                  <a:lnTo>
                    <a:pt x="1731" y="24"/>
                  </a:lnTo>
                  <a:lnTo>
                    <a:pt x="1770" y="29"/>
                  </a:lnTo>
                  <a:lnTo>
                    <a:pt x="1811" y="34"/>
                  </a:lnTo>
                  <a:lnTo>
                    <a:pt x="1850" y="41"/>
                  </a:lnTo>
                  <a:lnTo>
                    <a:pt x="1887" y="46"/>
                  </a:lnTo>
                  <a:lnTo>
                    <a:pt x="1926" y="52"/>
                  </a:lnTo>
                  <a:lnTo>
                    <a:pt x="1965" y="59"/>
                  </a:lnTo>
                  <a:lnTo>
                    <a:pt x="2003" y="65"/>
                  </a:lnTo>
                  <a:lnTo>
                    <a:pt x="2040" y="73"/>
                  </a:lnTo>
                  <a:lnTo>
                    <a:pt x="2077" y="81"/>
                  </a:lnTo>
                  <a:lnTo>
                    <a:pt x="2115" y="89"/>
                  </a:lnTo>
                  <a:lnTo>
                    <a:pt x="2152" y="98"/>
                  </a:lnTo>
                  <a:lnTo>
                    <a:pt x="2188" y="106"/>
                  </a:lnTo>
                  <a:lnTo>
                    <a:pt x="2224" y="115"/>
                  </a:lnTo>
                  <a:lnTo>
                    <a:pt x="2260" y="125"/>
                  </a:lnTo>
                  <a:lnTo>
                    <a:pt x="2295" y="135"/>
                  </a:lnTo>
                  <a:lnTo>
                    <a:pt x="2330" y="145"/>
                  </a:lnTo>
                  <a:lnTo>
                    <a:pt x="2364" y="156"/>
                  </a:lnTo>
                  <a:lnTo>
                    <a:pt x="2398" y="166"/>
                  </a:lnTo>
                  <a:lnTo>
                    <a:pt x="2432" y="177"/>
                  </a:lnTo>
                  <a:lnTo>
                    <a:pt x="2465" y="190"/>
                  </a:lnTo>
                  <a:lnTo>
                    <a:pt x="2497" y="202"/>
                  </a:lnTo>
                  <a:lnTo>
                    <a:pt x="2502" y="203"/>
                  </a:lnTo>
                  <a:lnTo>
                    <a:pt x="2505" y="206"/>
                  </a:lnTo>
                  <a:lnTo>
                    <a:pt x="2510" y="208"/>
                  </a:lnTo>
                  <a:lnTo>
                    <a:pt x="2512" y="208"/>
                  </a:lnTo>
                  <a:lnTo>
                    <a:pt x="2544" y="224"/>
                  </a:lnTo>
                  <a:lnTo>
                    <a:pt x="2510" y="239"/>
                  </a:lnTo>
                  <a:lnTo>
                    <a:pt x="1280" y="797"/>
                  </a:lnTo>
                  <a:lnTo>
                    <a:pt x="1272" y="800"/>
                  </a:lnTo>
                  <a:lnTo>
                    <a:pt x="1266" y="797"/>
                  </a:lnTo>
                  <a:lnTo>
                    <a:pt x="34" y="249"/>
                  </a:lnTo>
                  <a:lnTo>
                    <a:pt x="0" y="234"/>
                  </a:lnTo>
                  <a:lnTo>
                    <a:pt x="34" y="218"/>
                  </a:lnTo>
                  <a:lnTo>
                    <a:pt x="36" y="216"/>
                  </a:lnTo>
                  <a:lnTo>
                    <a:pt x="41" y="215"/>
                  </a:lnTo>
                  <a:lnTo>
                    <a:pt x="46" y="213"/>
                  </a:lnTo>
                  <a:lnTo>
                    <a:pt x="50" y="2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08600" y="1779480"/>
              <a:ext cx="3162240" cy="877680"/>
            </a:xfrm>
            <a:custGeom>
              <a:avLst/>
              <a:gdLst/>
              <a:ahLst/>
              <a:rect l="l" t="t" r="r" b="b"/>
              <a:pathLst>
                <a:path w="2463" h="764">
                  <a:moveTo>
                    <a:pt x="0" y="214"/>
                  </a:moveTo>
                  <a:lnTo>
                    <a:pt x="1231" y="764"/>
                  </a:lnTo>
                  <a:lnTo>
                    <a:pt x="2463" y="205"/>
                  </a:lnTo>
                  <a:lnTo>
                    <a:pt x="2461" y="205"/>
                  </a:lnTo>
                  <a:lnTo>
                    <a:pt x="2458" y="203"/>
                  </a:lnTo>
                  <a:lnTo>
                    <a:pt x="2454" y="201"/>
                  </a:lnTo>
                  <a:lnTo>
                    <a:pt x="2450" y="200"/>
                  </a:lnTo>
                  <a:lnTo>
                    <a:pt x="2419" y="188"/>
                  </a:lnTo>
                  <a:lnTo>
                    <a:pt x="2386" y="177"/>
                  </a:lnTo>
                  <a:lnTo>
                    <a:pt x="2355" y="166"/>
                  </a:lnTo>
                  <a:lnTo>
                    <a:pt x="2321" y="156"/>
                  </a:lnTo>
                  <a:lnTo>
                    <a:pt x="2289" y="146"/>
                  </a:lnTo>
                  <a:lnTo>
                    <a:pt x="2254" y="135"/>
                  </a:lnTo>
                  <a:lnTo>
                    <a:pt x="2220" y="125"/>
                  </a:lnTo>
                  <a:lnTo>
                    <a:pt x="2186" y="117"/>
                  </a:lnTo>
                  <a:lnTo>
                    <a:pt x="2150" y="107"/>
                  </a:lnTo>
                  <a:lnTo>
                    <a:pt x="2114" y="99"/>
                  </a:lnTo>
                  <a:lnTo>
                    <a:pt x="2079" y="91"/>
                  </a:lnTo>
                  <a:lnTo>
                    <a:pt x="2041" y="83"/>
                  </a:lnTo>
                  <a:lnTo>
                    <a:pt x="2004" y="75"/>
                  </a:lnTo>
                  <a:lnTo>
                    <a:pt x="1966" y="67"/>
                  </a:lnTo>
                  <a:lnTo>
                    <a:pt x="1929" y="60"/>
                  </a:lnTo>
                  <a:lnTo>
                    <a:pt x="1892" y="54"/>
                  </a:lnTo>
                  <a:lnTo>
                    <a:pt x="1853" y="47"/>
                  </a:lnTo>
                  <a:lnTo>
                    <a:pt x="1814" y="41"/>
                  </a:lnTo>
                  <a:lnTo>
                    <a:pt x="1774" y="36"/>
                  </a:lnTo>
                  <a:lnTo>
                    <a:pt x="1735" y="31"/>
                  </a:lnTo>
                  <a:lnTo>
                    <a:pt x="1695" y="26"/>
                  </a:lnTo>
                  <a:lnTo>
                    <a:pt x="1656" y="21"/>
                  </a:lnTo>
                  <a:lnTo>
                    <a:pt x="1615" y="18"/>
                  </a:lnTo>
                  <a:lnTo>
                    <a:pt x="1574" y="15"/>
                  </a:lnTo>
                  <a:lnTo>
                    <a:pt x="1534" y="11"/>
                  </a:lnTo>
                  <a:lnTo>
                    <a:pt x="1493" y="8"/>
                  </a:lnTo>
                  <a:lnTo>
                    <a:pt x="1452" y="5"/>
                  </a:lnTo>
                  <a:lnTo>
                    <a:pt x="1410" y="3"/>
                  </a:lnTo>
                  <a:lnTo>
                    <a:pt x="1369" y="2"/>
                  </a:lnTo>
                  <a:lnTo>
                    <a:pt x="1327" y="2"/>
                  </a:lnTo>
                  <a:lnTo>
                    <a:pt x="1286" y="0"/>
                  </a:lnTo>
                  <a:lnTo>
                    <a:pt x="1244" y="0"/>
                  </a:lnTo>
                  <a:lnTo>
                    <a:pt x="1202" y="0"/>
                  </a:lnTo>
                  <a:lnTo>
                    <a:pt x="1158" y="2"/>
                  </a:lnTo>
                  <a:lnTo>
                    <a:pt x="1116" y="2"/>
                  </a:lnTo>
                  <a:lnTo>
                    <a:pt x="1073" y="3"/>
                  </a:lnTo>
                  <a:lnTo>
                    <a:pt x="1031" y="6"/>
                  </a:lnTo>
                  <a:lnTo>
                    <a:pt x="989" y="8"/>
                  </a:lnTo>
                  <a:lnTo>
                    <a:pt x="948" y="11"/>
                  </a:lnTo>
                  <a:lnTo>
                    <a:pt x="906" y="15"/>
                  </a:lnTo>
                  <a:lnTo>
                    <a:pt x="865" y="18"/>
                  </a:lnTo>
                  <a:lnTo>
                    <a:pt x="823" y="23"/>
                  </a:lnTo>
                  <a:lnTo>
                    <a:pt x="782" y="28"/>
                  </a:lnTo>
                  <a:lnTo>
                    <a:pt x="742" y="32"/>
                  </a:lnTo>
                  <a:lnTo>
                    <a:pt x="702" y="37"/>
                  </a:lnTo>
                  <a:lnTo>
                    <a:pt x="662" y="44"/>
                  </a:lnTo>
                  <a:lnTo>
                    <a:pt x="623" y="49"/>
                  </a:lnTo>
                  <a:lnTo>
                    <a:pt x="584" y="55"/>
                  </a:lnTo>
                  <a:lnTo>
                    <a:pt x="545" y="63"/>
                  </a:lnTo>
                  <a:lnTo>
                    <a:pt x="506" y="70"/>
                  </a:lnTo>
                  <a:lnTo>
                    <a:pt x="468" y="78"/>
                  </a:lnTo>
                  <a:lnTo>
                    <a:pt x="429" y="86"/>
                  </a:lnTo>
                  <a:lnTo>
                    <a:pt x="393" y="94"/>
                  </a:lnTo>
                  <a:lnTo>
                    <a:pt x="356" y="102"/>
                  </a:lnTo>
                  <a:lnTo>
                    <a:pt x="320" y="112"/>
                  </a:lnTo>
                  <a:lnTo>
                    <a:pt x="284" y="122"/>
                  </a:lnTo>
                  <a:lnTo>
                    <a:pt x="249" y="132"/>
                  </a:lnTo>
                  <a:lnTo>
                    <a:pt x="213" y="141"/>
                  </a:lnTo>
                  <a:lnTo>
                    <a:pt x="179" y="151"/>
                  </a:lnTo>
                  <a:lnTo>
                    <a:pt x="144" y="162"/>
                  </a:lnTo>
                  <a:lnTo>
                    <a:pt x="112" y="174"/>
                  </a:lnTo>
                  <a:lnTo>
                    <a:pt x="79" y="185"/>
                  </a:lnTo>
                  <a:lnTo>
                    <a:pt x="47" y="197"/>
                  </a:lnTo>
                  <a:lnTo>
                    <a:pt x="16" y="208"/>
                  </a:lnTo>
                  <a:lnTo>
                    <a:pt x="11" y="210"/>
                  </a:lnTo>
                  <a:lnTo>
                    <a:pt x="6" y="211"/>
                  </a:lnTo>
                  <a:lnTo>
                    <a:pt x="1" y="214"/>
                  </a:lnTo>
                  <a:lnTo>
                    <a:pt x="0" y="214"/>
                  </a:lnTo>
                  <a:close/>
                </a:path>
              </a:pathLst>
            </a:custGeom>
            <a:solidFill>
              <a:srgbClr val="aa01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43240" y="2003040"/>
              <a:ext cx="3325680" cy="1552680"/>
            </a:xfrm>
            <a:custGeom>
              <a:avLst/>
              <a:gdLst/>
              <a:ahLst/>
              <a:rect l="l" t="t" r="r" b="b"/>
              <a:pathLst>
                <a:path w="2590" h="1352">
                  <a:moveTo>
                    <a:pt x="0" y="571"/>
                  </a:moveTo>
                  <a:lnTo>
                    <a:pt x="2" y="530"/>
                  </a:lnTo>
                  <a:lnTo>
                    <a:pt x="10" y="491"/>
                  </a:lnTo>
                  <a:lnTo>
                    <a:pt x="21" y="452"/>
                  </a:lnTo>
                  <a:lnTo>
                    <a:pt x="39" y="413"/>
                  </a:lnTo>
                  <a:lnTo>
                    <a:pt x="60" y="374"/>
                  </a:lnTo>
                  <a:lnTo>
                    <a:pt x="87" y="336"/>
                  </a:lnTo>
                  <a:lnTo>
                    <a:pt x="117" y="299"/>
                  </a:lnTo>
                  <a:lnTo>
                    <a:pt x="152" y="263"/>
                  </a:lnTo>
                  <a:lnTo>
                    <a:pt x="191" y="228"/>
                  </a:lnTo>
                  <a:lnTo>
                    <a:pt x="235" y="192"/>
                  </a:lnTo>
                  <a:lnTo>
                    <a:pt x="283" y="159"/>
                  </a:lnTo>
                  <a:lnTo>
                    <a:pt x="335" y="125"/>
                  </a:lnTo>
                  <a:lnTo>
                    <a:pt x="392" y="93"/>
                  </a:lnTo>
                  <a:lnTo>
                    <a:pt x="454" y="62"/>
                  </a:lnTo>
                  <a:lnTo>
                    <a:pt x="519" y="32"/>
                  </a:lnTo>
                  <a:lnTo>
                    <a:pt x="588" y="3"/>
                  </a:lnTo>
                  <a:lnTo>
                    <a:pt x="588" y="3"/>
                  </a:lnTo>
                  <a:lnTo>
                    <a:pt x="589" y="3"/>
                  </a:lnTo>
                  <a:lnTo>
                    <a:pt x="591" y="3"/>
                  </a:lnTo>
                  <a:lnTo>
                    <a:pt x="591" y="3"/>
                  </a:lnTo>
                  <a:lnTo>
                    <a:pt x="597" y="0"/>
                  </a:lnTo>
                  <a:lnTo>
                    <a:pt x="599" y="0"/>
                  </a:lnTo>
                  <a:lnTo>
                    <a:pt x="601" y="2"/>
                  </a:lnTo>
                  <a:lnTo>
                    <a:pt x="602" y="3"/>
                  </a:lnTo>
                  <a:lnTo>
                    <a:pt x="604" y="3"/>
                  </a:lnTo>
                  <a:lnTo>
                    <a:pt x="1845" y="561"/>
                  </a:lnTo>
                  <a:lnTo>
                    <a:pt x="1848" y="562"/>
                  </a:lnTo>
                  <a:lnTo>
                    <a:pt x="1850" y="564"/>
                  </a:lnTo>
                  <a:lnTo>
                    <a:pt x="2567" y="1258"/>
                  </a:lnTo>
                  <a:lnTo>
                    <a:pt x="2590" y="1281"/>
                  </a:lnTo>
                  <a:lnTo>
                    <a:pt x="2585" y="1281"/>
                  </a:lnTo>
                  <a:lnTo>
                    <a:pt x="2574" y="1283"/>
                  </a:lnTo>
                  <a:lnTo>
                    <a:pt x="2562" y="1286"/>
                  </a:lnTo>
                  <a:lnTo>
                    <a:pt x="2558" y="1286"/>
                  </a:lnTo>
                  <a:lnTo>
                    <a:pt x="2554" y="1287"/>
                  </a:lnTo>
                  <a:lnTo>
                    <a:pt x="2510" y="1296"/>
                  </a:lnTo>
                  <a:lnTo>
                    <a:pt x="2466" y="1302"/>
                  </a:lnTo>
                  <a:lnTo>
                    <a:pt x="2424" y="1310"/>
                  </a:lnTo>
                  <a:lnTo>
                    <a:pt x="2379" y="1317"/>
                  </a:lnTo>
                  <a:lnTo>
                    <a:pt x="2335" y="1322"/>
                  </a:lnTo>
                  <a:lnTo>
                    <a:pt x="2291" y="1328"/>
                  </a:lnTo>
                  <a:lnTo>
                    <a:pt x="2247" y="1331"/>
                  </a:lnTo>
                  <a:lnTo>
                    <a:pt x="2201" y="1336"/>
                  </a:lnTo>
                  <a:lnTo>
                    <a:pt x="2157" y="1339"/>
                  </a:lnTo>
                  <a:lnTo>
                    <a:pt x="2112" y="1343"/>
                  </a:lnTo>
                  <a:lnTo>
                    <a:pt x="2066" y="1346"/>
                  </a:lnTo>
                  <a:lnTo>
                    <a:pt x="2021" y="1349"/>
                  </a:lnTo>
                  <a:lnTo>
                    <a:pt x="1977" y="1351"/>
                  </a:lnTo>
                  <a:lnTo>
                    <a:pt x="1931" y="1351"/>
                  </a:lnTo>
                  <a:lnTo>
                    <a:pt x="1886" y="1352"/>
                  </a:lnTo>
                  <a:lnTo>
                    <a:pt x="1840" y="1352"/>
                  </a:lnTo>
                  <a:lnTo>
                    <a:pt x="1772" y="1352"/>
                  </a:lnTo>
                  <a:lnTo>
                    <a:pt x="1705" y="1351"/>
                  </a:lnTo>
                  <a:lnTo>
                    <a:pt x="1638" y="1348"/>
                  </a:lnTo>
                  <a:lnTo>
                    <a:pt x="1572" y="1343"/>
                  </a:lnTo>
                  <a:lnTo>
                    <a:pt x="1505" y="1338"/>
                  </a:lnTo>
                  <a:lnTo>
                    <a:pt x="1440" y="1333"/>
                  </a:lnTo>
                  <a:lnTo>
                    <a:pt x="1375" y="1325"/>
                  </a:lnTo>
                  <a:lnTo>
                    <a:pt x="1310" y="1317"/>
                  </a:lnTo>
                  <a:lnTo>
                    <a:pt x="1246" y="1309"/>
                  </a:lnTo>
                  <a:lnTo>
                    <a:pt x="1185" y="1299"/>
                  </a:lnTo>
                  <a:lnTo>
                    <a:pt x="1123" y="1287"/>
                  </a:lnTo>
                  <a:lnTo>
                    <a:pt x="1061" y="1276"/>
                  </a:lnTo>
                  <a:lnTo>
                    <a:pt x="1002" y="1263"/>
                  </a:lnTo>
                  <a:lnTo>
                    <a:pt x="942" y="1248"/>
                  </a:lnTo>
                  <a:lnTo>
                    <a:pt x="885" y="1234"/>
                  </a:lnTo>
                  <a:lnTo>
                    <a:pt x="828" y="1219"/>
                  </a:lnTo>
                  <a:lnTo>
                    <a:pt x="773" y="1203"/>
                  </a:lnTo>
                  <a:lnTo>
                    <a:pt x="719" y="1185"/>
                  </a:lnTo>
                  <a:lnTo>
                    <a:pt x="667" y="1167"/>
                  </a:lnTo>
                  <a:lnTo>
                    <a:pt x="617" y="1149"/>
                  </a:lnTo>
                  <a:lnTo>
                    <a:pt x="568" y="1128"/>
                  </a:lnTo>
                  <a:lnTo>
                    <a:pt x="519" y="1109"/>
                  </a:lnTo>
                  <a:lnTo>
                    <a:pt x="474" y="1087"/>
                  </a:lnTo>
                  <a:lnTo>
                    <a:pt x="428" y="1066"/>
                  </a:lnTo>
                  <a:lnTo>
                    <a:pt x="386" y="1044"/>
                  </a:lnTo>
                  <a:lnTo>
                    <a:pt x="345" y="1021"/>
                  </a:lnTo>
                  <a:lnTo>
                    <a:pt x="306" y="996"/>
                  </a:lnTo>
                  <a:lnTo>
                    <a:pt x="270" y="972"/>
                  </a:lnTo>
                  <a:lnTo>
                    <a:pt x="235" y="946"/>
                  </a:lnTo>
                  <a:lnTo>
                    <a:pt x="202" y="922"/>
                  </a:lnTo>
                  <a:lnTo>
                    <a:pt x="171" y="896"/>
                  </a:lnTo>
                  <a:lnTo>
                    <a:pt x="143" y="868"/>
                  </a:lnTo>
                  <a:lnTo>
                    <a:pt x="109" y="832"/>
                  </a:lnTo>
                  <a:lnTo>
                    <a:pt x="80" y="796"/>
                  </a:lnTo>
                  <a:lnTo>
                    <a:pt x="56" y="759"/>
                  </a:lnTo>
                  <a:lnTo>
                    <a:pt x="36" y="722"/>
                  </a:lnTo>
                  <a:lnTo>
                    <a:pt x="20" y="684"/>
                  </a:lnTo>
                  <a:lnTo>
                    <a:pt x="8" y="647"/>
                  </a:lnTo>
                  <a:lnTo>
                    <a:pt x="2" y="610"/>
                  </a:lnTo>
                  <a:lnTo>
                    <a:pt x="0" y="5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65560" y="2023920"/>
              <a:ext cx="3255840" cy="1512720"/>
            </a:xfrm>
            <a:custGeom>
              <a:avLst/>
              <a:gdLst/>
              <a:ahLst/>
              <a:rect l="l" t="t" r="r" b="b"/>
              <a:pathLst>
                <a:path w="2537" h="1318">
                  <a:moveTo>
                    <a:pt x="1823" y="1318"/>
                  </a:moveTo>
                  <a:lnTo>
                    <a:pt x="1869" y="1318"/>
                  </a:lnTo>
                  <a:lnTo>
                    <a:pt x="1916" y="1317"/>
                  </a:lnTo>
                  <a:lnTo>
                    <a:pt x="1961" y="1315"/>
                  </a:lnTo>
                  <a:lnTo>
                    <a:pt x="2007" y="1313"/>
                  </a:lnTo>
                  <a:lnTo>
                    <a:pt x="2053" y="1312"/>
                  </a:lnTo>
                  <a:lnTo>
                    <a:pt x="2098" y="1308"/>
                  </a:lnTo>
                  <a:lnTo>
                    <a:pt x="2142" y="1305"/>
                  </a:lnTo>
                  <a:lnTo>
                    <a:pt x="2188" y="1300"/>
                  </a:lnTo>
                  <a:lnTo>
                    <a:pt x="2231" y="1297"/>
                  </a:lnTo>
                  <a:lnTo>
                    <a:pt x="2275" y="1292"/>
                  </a:lnTo>
                  <a:lnTo>
                    <a:pt x="2319" y="1286"/>
                  </a:lnTo>
                  <a:lnTo>
                    <a:pt x="2363" y="1281"/>
                  </a:lnTo>
                  <a:lnTo>
                    <a:pt x="2407" y="1274"/>
                  </a:lnTo>
                  <a:lnTo>
                    <a:pt x="2449" y="1268"/>
                  </a:lnTo>
                  <a:lnTo>
                    <a:pt x="2492" y="1261"/>
                  </a:lnTo>
                  <a:lnTo>
                    <a:pt x="2534" y="1253"/>
                  </a:lnTo>
                  <a:lnTo>
                    <a:pt x="2536" y="1253"/>
                  </a:lnTo>
                  <a:lnTo>
                    <a:pt x="2536" y="1251"/>
                  </a:lnTo>
                  <a:lnTo>
                    <a:pt x="2537" y="1251"/>
                  </a:lnTo>
                  <a:lnTo>
                    <a:pt x="2537" y="1251"/>
                  </a:lnTo>
                  <a:lnTo>
                    <a:pt x="1822" y="559"/>
                  </a:lnTo>
                  <a:lnTo>
                    <a:pt x="580" y="0"/>
                  </a:lnTo>
                  <a:lnTo>
                    <a:pt x="580" y="0"/>
                  </a:lnTo>
                  <a:lnTo>
                    <a:pt x="579" y="0"/>
                  </a:lnTo>
                  <a:lnTo>
                    <a:pt x="579" y="1"/>
                  </a:lnTo>
                  <a:lnTo>
                    <a:pt x="577" y="1"/>
                  </a:lnTo>
                  <a:lnTo>
                    <a:pt x="514" y="29"/>
                  </a:lnTo>
                  <a:lnTo>
                    <a:pt x="452" y="57"/>
                  </a:lnTo>
                  <a:lnTo>
                    <a:pt x="393" y="86"/>
                  </a:lnTo>
                  <a:lnTo>
                    <a:pt x="340" y="117"/>
                  </a:lnTo>
                  <a:lnTo>
                    <a:pt x="288" y="148"/>
                  </a:lnTo>
                  <a:lnTo>
                    <a:pt x="240" y="180"/>
                  </a:lnTo>
                  <a:lnTo>
                    <a:pt x="196" y="214"/>
                  </a:lnTo>
                  <a:lnTo>
                    <a:pt x="157" y="249"/>
                  </a:lnTo>
                  <a:lnTo>
                    <a:pt x="122" y="284"/>
                  </a:lnTo>
                  <a:lnTo>
                    <a:pt x="91" y="320"/>
                  </a:lnTo>
                  <a:lnTo>
                    <a:pt x="63" y="357"/>
                  </a:lnTo>
                  <a:lnTo>
                    <a:pt x="40" y="395"/>
                  </a:lnTo>
                  <a:lnTo>
                    <a:pt x="22" y="434"/>
                  </a:lnTo>
                  <a:lnTo>
                    <a:pt x="9" y="473"/>
                  </a:lnTo>
                  <a:lnTo>
                    <a:pt x="3" y="512"/>
                  </a:lnTo>
                  <a:lnTo>
                    <a:pt x="0" y="553"/>
                  </a:lnTo>
                  <a:lnTo>
                    <a:pt x="3" y="592"/>
                  </a:lnTo>
                  <a:lnTo>
                    <a:pt x="9" y="631"/>
                  </a:lnTo>
                  <a:lnTo>
                    <a:pt x="22" y="670"/>
                  </a:lnTo>
                  <a:lnTo>
                    <a:pt x="39" y="707"/>
                  </a:lnTo>
                  <a:lnTo>
                    <a:pt x="60" y="744"/>
                  </a:lnTo>
                  <a:lnTo>
                    <a:pt x="86" y="780"/>
                  </a:lnTo>
                  <a:lnTo>
                    <a:pt x="117" y="816"/>
                  </a:lnTo>
                  <a:lnTo>
                    <a:pt x="151" y="850"/>
                  </a:lnTo>
                  <a:lnTo>
                    <a:pt x="188" y="884"/>
                  </a:lnTo>
                  <a:lnTo>
                    <a:pt x="231" y="917"/>
                  </a:lnTo>
                  <a:lnTo>
                    <a:pt x="276" y="949"/>
                  </a:lnTo>
                  <a:lnTo>
                    <a:pt x="325" y="980"/>
                  </a:lnTo>
                  <a:lnTo>
                    <a:pt x="377" y="1011"/>
                  </a:lnTo>
                  <a:lnTo>
                    <a:pt x="434" y="1040"/>
                  </a:lnTo>
                  <a:lnTo>
                    <a:pt x="492" y="1068"/>
                  </a:lnTo>
                  <a:lnTo>
                    <a:pt x="554" y="1094"/>
                  </a:lnTo>
                  <a:lnTo>
                    <a:pt x="618" y="1120"/>
                  </a:lnTo>
                  <a:lnTo>
                    <a:pt x="686" y="1143"/>
                  </a:lnTo>
                  <a:lnTo>
                    <a:pt x="756" y="1165"/>
                  </a:lnTo>
                  <a:lnTo>
                    <a:pt x="828" y="1188"/>
                  </a:lnTo>
                  <a:lnTo>
                    <a:pt x="901" y="1208"/>
                  </a:lnTo>
                  <a:lnTo>
                    <a:pt x="977" y="1225"/>
                  </a:lnTo>
                  <a:lnTo>
                    <a:pt x="1055" y="1243"/>
                  </a:lnTo>
                  <a:lnTo>
                    <a:pt x="1137" y="1258"/>
                  </a:lnTo>
                  <a:lnTo>
                    <a:pt x="1218" y="1271"/>
                  </a:lnTo>
                  <a:lnTo>
                    <a:pt x="1301" y="1284"/>
                  </a:lnTo>
                  <a:lnTo>
                    <a:pt x="1386" y="1294"/>
                  </a:lnTo>
                  <a:lnTo>
                    <a:pt x="1472" y="1302"/>
                  </a:lnTo>
                  <a:lnTo>
                    <a:pt x="1558" y="1310"/>
                  </a:lnTo>
                  <a:lnTo>
                    <a:pt x="1646" y="1315"/>
                  </a:lnTo>
                  <a:lnTo>
                    <a:pt x="1734" y="1317"/>
                  </a:lnTo>
                  <a:lnTo>
                    <a:pt x="1823" y="1318"/>
                  </a:lnTo>
                  <a:close/>
                </a:path>
              </a:pathLst>
            </a:custGeom>
            <a:solidFill>
              <a:srgbClr val="a6ca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51280" y="2539800"/>
              <a:ext cx="1603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800" spc="-1" strike="noStrike">
                  <a:solidFill>
                    <a:srgbClr val="ffffff"/>
                  </a:solidFill>
                  <a:latin typeface="Verdana"/>
                </a:rPr>
                <a:t>Întrebări de unit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702040" y="1752480"/>
              <a:ext cx="160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800" spc="-1" strike="noStrike">
                  <a:solidFill>
                    <a:srgbClr val="ffffff"/>
                  </a:solidFill>
                  <a:latin typeface="Verdana"/>
                </a:rPr>
                <a:t>Întrebări de unit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29360" y="2393640"/>
              <a:ext cx="1603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800" spc="-1" strike="noStrike">
                  <a:solidFill>
                    <a:srgbClr val="ffffff"/>
                  </a:solidFill>
                  <a:latin typeface="Verdana"/>
                </a:rPr>
                <a:t>Întrebări de unit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 txBox="1"/>
            <p:nvPr/>
          </p:nvSpPr>
          <p:spPr>
            <a:xfrm>
              <a:off x="5410080" y="3422520"/>
              <a:ext cx="2362320" cy="304560"/>
            </a:xfrm>
            <a:prstGeom prst="rect">
              <a:avLst/>
            </a:prstGeom>
          </p:spPr>
          <p:txBody>
            <a:bodyPr wrap="none" fromWordArt="1" lIns="90000" rIns="90000" tIns="46800" bIns="46800" anchor="ctr" anchorCtr="1">
              <a:prstTxWarp prst="textArchDown">
                <a:avLst>
                  <a:gd name="adj" fmla="val 85749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0">
                    <a:noFill/>
                  </a:ln>
                  <a:solidFill>
                    <a:srgbClr val="ffffff"/>
                  </a:solidFill>
                  <a:latin typeface="Verdana"/>
                </a:rPr>
                <a:t>Întrebare esenţială</a:t>
              </a:r>
              <a:endParaRPr b="1" lang="en-US" sz="2000" spc="1" strike="noStrike">
                <a:ln w="0">
                  <a:noFill/>
                </a:ln>
                <a:solidFill>
                  <a:srgbClr val="ffffff"/>
                </a:solidFill>
                <a:latin typeface="Verdana"/>
                <a:ea typeface="Verdana"/>
              </a:endParaRPr>
            </a:p>
          </p:txBody>
        </p:sp>
      </p:grpSp>
      <p:sp>
        <p:nvSpPr>
          <p:cNvPr id="116" name="">
            <a:hlinkClick r:id="rId1"/>
          </p:cNvPr>
          <p:cNvSpPr/>
          <p:nvPr/>
        </p:nvSpPr>
        <p:spPr>
          <a:xfrm>
            <a:off x="8381880" y="54864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a6ca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17134-27B2-4B8A-BDE5-8E88BB2D3C7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182600" y="6472080"/>
            <a:ext cx="64724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2006 Intel Corporation. All rights reserved. Intel, Intel logo, Intel. Leap ahead., and Intel. Leap ahead. logo are trademarks or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registered trademarks of Intel Corporation or its subsidiaries in the United States and other countries.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86360" y="29876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141960" y="1576440"/>
            <a:ext cx="2263680" cy="11304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184400" y="1512720"/>
            <a:ext cx="2787480" cy="1148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BC827-5B11-4121-86B4-039CB3E504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6T15:48:59Z</dcterms:created>
  <dc:creator>Judi Yost</dc:creator>
  <dc:description/>
  <dc:language>en-US</dc:language>
  <cp:lastModifiedBy>Adriana</cp:lastModifiedBy>
  <dcterms:modified xsi:type="dcterms:W3CDTF">2008-02-27T20:52:29Z</dcterms:modified>
  <cp:revision>298</cp:revision>
  <dc:subject/>
  <dc:title>Why Essential Questions?</dc:title>
</cp:coreProperties>
</file>